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2.png" ContentType="image/pn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9.jpeg" ContentType="image/jpeg"/>
  <Override PartName="/ppt/media/image30.jpeg" ContentType="image/jpeg"/>
  <Override PartName="/ppt/media/image37.wmf" ContentType="image/x-wmf"/>
  <Override PartName="/ppt/media/image28.jpeg" ContentType="image/jpeg"/>
  <Override PartName="/ppt/media/image38.wmf" ContentType="image/x-wmf"/>
  <Override PartName="/ppt/media/image31.wmf" ContentType="image/x-wmf"/>
  <Override PartName="/ppt/media/image7.jpeg" ContentType="image/jpeg"/>
  <Override PartName="/ppt/media/image4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6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3.wmf" ContentType="image/x-wmf"/>
  <Override PartName="/ppt/media/image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899-CCAD-4115-9319-7B4FD1EE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DAA-C6D4-42AB-B58B-CB82D420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DBE0-65F3-49C1-9214-7E62A7D5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C67-FE4F-4E78-A47F-61532DCD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1F3-4C48-48F6-958C-22094969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95120" y="30456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6AD-1302-4A10-8A08-3816D368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EB6-03C8-48E3-8577-EC2F9ED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713-0A28-41C4-AD60-133E975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BA0-B08F-4424-8E22-DC2E539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DCF-E091-4C53-A403-3EA0B7B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C7C-DBE1-4379-9E05-349242EC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0E4-1142-491E-8DF0-99F0BED5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304560"/>
            <a:ext cx="57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82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gradFill rotWithShape="0">
            <a:gsLst>
              <a:gs pos="0">
                <a:srgbClr val="4782b5"/>
              </a:gs>
              <a:gs pos="100000">
                <a:srgbClr val="203a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gradFill rotWithShape="0">
            <a:gsLst>
              <a:gs pos="0">
                <a:srgbClr val="203a50"/>
              </a:gs>
              <a:gs pos="100000">
                <a:srgbClr val="4782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85760" indent="-7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85480" indent="-56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99960" indent="-56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514080" indent="-56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1083" b="3041"/>
          <a:stretch/>
        </p:blipFill>
        <p:spPr>
          <a:xfrm>
            <a:off x="609480" y="1828800"/>
            <a:ext cx="7398000" cy="298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9144000" cy="457200"/>
          </a:xfrm>
          <a:prstGeom prst="rect">
            <a:avLst/>
          </a:prstGeom>
          <a:gradFill rotWithShape="0">
            <a:gsLst>
              <a:gs pos="0">
                <a:srgbClr val="ffffcd"/>
              </a:gs>
              <a:gs pos="100000">
                <a:srgbClr val="dd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d85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d8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d8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5BC6-0A88-4266-8C18-50F7C5D22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27360" cy="112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9.jpeg"/><Relationship Id="rId3" Type="http://schemas.openxmlformats.org/officeDocument/2006/relationships/image" Target="../media/image21.jpeg"/><Relationship Id="rId4" Type="http://schemas.openxmlformats.org/officeDocument/2006/relationships/image" Target="../media/image23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82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0" y="6095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legjobb weboldalak egy hely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95120" y="15228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782b5"/>
                </a:solidFill>
                <a:latin typeface="Arial Narrow"/>
              </a:rPr>
              <a:t>Internet használat  - trendek Magyarországon</a:t>
            </a:r>
            <a:r>
              <a:rPr b="0" lang="hu-HU" sz="4400" spc="-1" strike="noStrike">
                <a:solidFill>
                  <a:srgbClr val="4782b5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4782b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609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4d85"/>
                </a:solidFill>
                <a:latin typeface="Arial Narrow"/>
              </a:rPr>
              <a:t>(2004/4.</a:t>
            </a:r>
            <a:r>
              <a:rPr b="1" lang="en-US" sz="1600" spc="-1" strike="noStrike">
                <a:solidFill>
                  <a:srgbClr val="004d85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004d85"/>
                </a:solidFill>
                <a:latin typeface="Arial Narrow"/>
              </a:rPr>
              <a:t>adatok ezer főb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609480"/>
          <a:ext cx="8915400" cy="609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89154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57913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782b5"/>
                </a:solidFill>
                <a:latin typeface="Arial Narrow"/>
              </a:rPr>
              <a:t>Internet használók tipológiája</a:t>
            </a:r>
            <a:br>
              <a:rPr sz="2400"/>
            </a:br>
            <a:r>
              <a:rPr b="1" lang="hu-HU" sz="1600" spc="-1" strike="noStrike">
                <a:solidFill>
                  <a:srgbClr val="4782b5"/>
                </a:solidFill>
                <a:latin typeface="Arial Narrow"/>
              </a:rPr>
              <a:t>(2004/4.</a:t>
            </a:r>
            <a:r>
              <a:rPr b="1" lang="en-US" sz="1600" spc="-1" strike="noStrike">
                <a:solidFill>
                  <a:srgbClr val="4782b5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4782b5"/>
                </a:solidFill>
                <a:latin typeface="Arial Narrow"/>
              </a:rPr>
              <a:t>adatok ezer főben)</a:t>
            </a:r>
            <a:endParaRPr b="0" lang="en-US" sz="16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lvl="1" marL="57240" indent="0" algn="ctr">
              <a:lnSpc>
                <a:spcPct val="1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4d85"/>
                </a:solidFill>
                <a:latin typeface="Arial"/>
              </a:rPr>
              <a:t>Teljes népesség</a:t>
            </a:r>
            <a:r>
              <a:rPr b="0" lang="hu-HU" sz="1600" spc="-1" strike="noStrike">
                <a:solidFill>
                  <a:srgbClr val="004d85"/>
                </a:solidFill>
                <a:latin typeface="Arial"/>
              </a:rPr>
              <a:t>: 8,503</a:t>
            </a:r>
            <a:endParaRPr b="0" lang="en-US" sz="1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4d85"/>
                </a:solidFill>
                <a:latin typeface="Arial"/>
              </a:rPr>
              <a:t>	</a:t>
            </a:r>
            <a:r>
              <a:rPr b="0" lang="hu-HU" sz="3600" spc="-1" strike="noStrike">
                <a:solidFill>
                  <a:srgbClr val="004d85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 algn="ctr">
              <a:lnSpc>
                <a:spcPct val="1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  <a:p>
            <a:pPr lvl="1" marL="57240" indent="0">
              <a:lnSpc>
                <a:spcPct val="1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850920" y="2643120"/>
            <a:ext cx="30492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2643120"/>
            <a:ext cx="3808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643280" y="1809720"/>
            <a:ext cx="5040" cy="25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3003480"/>
            <a:ext cx="38862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ternetet igénybevevők: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2,0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2138400"/>
            <a:ext cx="3962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an Internet hozzáférése bárhol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: 2,6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92720" y="3146400"/>
            <a:ext cx="342900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m használja az Internetet: 5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5280" y="393876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393876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4443480"/>
            <a:ext cx="3809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ight-user: 9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hetente egyszer vagy ritkábban Internet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133880"/>
            <a:ext cx="35816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eavy-user: 11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hetente többször Internetez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5105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5465880"/>
            <a:ext cx="3429000" cy="5331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Internetezik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60199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onda Ipso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7480" y="-11160"/>
            <a:ext cx="1839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22040" y="228600"/>
            <a:ext cx="335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élcsoport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075120"/>
            <a:ext cx="6363000" cy="370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17120" y="1066680"/>
            <a:ext cx="7239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 célcsoport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6-49 év közötti internetező fiatal AB társadalmi státuszú felnőtt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lalkozók, döntéshozók vagy  szellemi vezetők, beosztottak, felsőfokú végzettségű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kább Budapesten vagy vidéki nagyvárosban éln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unkahelyükön, otthon, vagy felsőoktatási intézményekben gyakran szörfözn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ors tájékozódást helyezik előtér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Örömmel és tudatosan keresnek hasznos információkat és kikapcsolódást a ne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-recept titka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látogatók az Internethez való viszonyulásuk alapján három csoportba sorolhatók: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j felhasználók: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ost ismerkednek a web-bel segítségre van szükségü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Gyakorlott felhasználók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endszeres Internetezők, bizonyos információk után kutatnak, kevés az idejü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anatikus felhasználók: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ig új tartalmak után kutatnak, kíváncsiskodó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28840" y="12189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tartlap recept titka: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iacelemzés, tervszerűség, következetes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mzetközi know-how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igorú szerkesztőségi alapelv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égi kontroll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udatos egyszerűség és áttekinthető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okfélesé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száz lelkes oldal szerkesz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ségépítés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orlátlan lehetőségek, alkotói szabadság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aláló &amp; Egyszerű márkanév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4343400"/>
            <a:ext cx="25905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76720" y="437508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943600" y="434340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624852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ók demográfiája 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763200" y="153828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Startlap látoga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657600" y="3197160"/>
          <a:ext cx="54864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197160"/>
                    <a:ext cx="54864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365800" y="37162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Gyakori internet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380880"/>
          <a:ext cx="6813720" cy="5176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681372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" y="5791320"/>
            <a:ext cx="300996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zonda Média Navig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2004.II.-III.negyedé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Bázis: Internet hozzáféréssel rendelkezők, Startlap látogat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609624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ók demográfiája 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04920" y="762120"/>
          <a:ext cx="7019640" cy="495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70196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39520" y="160020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Startlap látogató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9600" y="380988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99"/>
                </a:solidFill>
                <a:uFillTx/>
                <a:latin typeface="Arial"/>
              </a:rPr>
              <a:t>Gyakori internetező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1080" y="5762520"/>
            <a:ext cx="30956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Szonda Média Navigá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2004.II.-III.negyedé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Bázis: Internet hozzáféréssel rendelkezők, Startlap látogat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62520" y="3614760"/>
          <a:ext cx="5638680" cy="37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614760"/>
                    <a:ext cx="563868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látogatottsági számok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1855800"/>
          <a:ext cx="876312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55800"/>
                    <a:ext cx="876312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52280" y="1066680"/>
            <a:ext cx="8610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HEideticModern"/>
              </a:rPr>
              <a:t>A Startlap napi látogatottság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HEideticModern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HEideticModern"/>
              </a:rPr>
              <a:t>A Startlap 2005-ben szinte minden nap közelíti az 500 000 egyedi látogató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Startlap nyitóoldali látogatottság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egyes rovatainak látogatottsága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668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edi látogatószám (unique us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48560" y="6400800"/>
            <a:ext cx="239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edián Web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5720" y="6858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 Narrow"/>
              </a:rPr>
              <a:t>2004-es átl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295280"/>
          <a:ext cx="8229600" cy="439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22960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z Online reklámköltés évente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506600"/>
          <a:ext cx="8534520" cy="43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06600"/>
                    <a:ext cx="853452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702840" y="640080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200" spc="-1" strike="noStrike">
                <a:solidFill>
                  <a:srgbClr val="000000"/>
                </a:solidFill>
                <a:latin typeface="Arial"/>
              </a:rPr>
              <a:t>Forrás: MRSZ jelentés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4343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Küldetése és szerkezete</a:t>
            </a:r>
            <a:r>
              <a:rPr b="0" lang="hu-HU" sz="4400" spc="-1" strike="noStrike">
                <a:solidFill>
                  <a:srgbClr val="4782b5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Mi a Startlap? - </a:t>
            </a:r>
            <a:r>
              <a:rPr b="1" lang="hu-HU" sz="1400" spc="-1" strike="noStrike">
                <a:solidFill>
                  <a:srgbClr val="0000ff"/>
                </a:solidFill>
                <a:latin typeface="Arial"/>
              </a:rPr>
              <a:t>Az Internet legjobb weblapjainak rendszerezett, tematikus gyűjtemény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Küldetése: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Olyan mozgalom, melynek célja az Internet értékeinek  felkutatása, terjesztése, megismertetése egyszerű és áttekinthető módon. Fő célja, hogy Magyarország kereső központjává váljon.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LAPÉRTÉK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aktikus: Könnyen keresek, gyorsan találo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tekinthető: Téma szerinti kategóriák 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okoldalú: Az élet minden területe 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bízható: Biztos linke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őségi: Folyamatos kontroll &amp; karbantartás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sznos: Naprakész információ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Gyors letöltődés: Az idő pénz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zabad: Szerkessz  te is!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SZERKEZET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9 rova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2 tematikus doboz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400 link a nyitóoldalon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LAP.HU mozgalom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2 900 tematikus oldal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1 600 szerkesz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2978280"/>
            <a:ext cx="4267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eglátogatottabb nyitó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ásodik leglátogatottab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2 900 Lap.hu 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gyarország legnagyobb online szerkesztősé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1600 szerkesz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aját kereső, játék, apróhirdetési és fórum szolgáltat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eti hírlevé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mint </a:t>
            </a: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150 000 regisztrált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on történő hirdetés előnyei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0880" y="1295280"/>
          <a:ext cx="8458200" cy="3327480"/>
        </p:xfrm>
        <a:graphic>
          <a:graphicData uri="http://schemas.openxmlformats.org/drawingml/2006/table">
            <a:tbl>
              <a:tblPr/>
              <a:tblGrid>
                <a:gridCol w="3962160"/>
                <a:gridCol w="4496040"/>
              </a:tblGrid>
              <a:tr h="33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Egyedi hirdetési előnyö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s Re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dszeres internetező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tikus oldal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lap végig a háttérb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csony PI / S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ner a lapok tetejé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kus old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lapon egy darab b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ből származó hasz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irdetés nagy tömegekhez jut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Őket itt érheti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váló targetálási lehető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elhasználó többször találkozik a hirdetéssel felár nélkü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 hirdetéstemető, nem kidobott pénz itt hirdet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es felület piaci átlag alatti á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hirdetés figyelemfelkelt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hirdetés nem vonja el a figyelm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57600" y="5068800"/>
            <a:ext cx="1905120" cy="1484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562720" y="5029200"/>
            <a:ext cx="1752480" cy="1533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315200" y="5029200"/>
            <a:ext cx="1600200" cy="1536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1981080" y="5029200"/>
            <a:ext cx="1600200" cy="1539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28600" y="5105520"/>
            <a:ext cx="16765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5638680" y="422928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19280" y="4191120"/>
            <a:ext cx="168120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89548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1208160"/>
          <a:ext cx="8077320" cy="2830320"/>
        </p:xfrm>
        <a:graphic>
          <a:graphicData uri="http://schemas.openxmlformats.org/drawingml/2006/table">
            <a:tbl>
              <a:tblPr/>
              <a:tblGrid>
                <a:gridCol w="4800600"/>
                <a:gridCol w="327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Mé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felső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x6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 over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lső bannerből, vagy kreatív boxból kinyíló felüle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reatív méretének maximum 100%-os növekedé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boksz szöveges linkekkel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imum 5 lin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zöve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yitóoldal banner boksz, napi á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x25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d pop up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megjelenési lehetőségek a doboz alatt láthatóa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x25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álló boks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z oldal jobb felső részén fix helyen a tartalmi doboz melle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300, 216x380, 450x250-es méretekb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x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írlevél/alkalom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7ezer kiküldé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x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19520" y="62064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nyitó ol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33520" y="1447920"/>
          <a:ext cx="3809880" cy="42307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uper b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ülönleges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keover..st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emelt full grafikus fix dobo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zöveg, álló, vagy mozgó képp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eatív dobo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0x100-as képpel, 50 karakternyi címmel 250 karakternyi szöveggel és 5 linkk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esőform elhelyezése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sak releváns tartalom helyezhető e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vatszponzoráció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anner+kiemelt dobo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 u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álló boksz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z oldal jobb felső részén fix helyen a tartalmi doboz mellet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2895480" y="34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267080" cy="3517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818080" y="62064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rov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7467480" y="5105520"/>
          <a:ext cx="1447560" cy="145728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rdetési link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h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II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19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1428840"/>
          <a:ext cx="259092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838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Hirdetési felül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4d85"/>
                          </a:solidFill>
                          <a:latin typeface="Arial"/>
                        </a:rPr>
                        <a:t>Mér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Kiemelt Ajánlat" saját doboz a lap.hu oldal felső felületé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x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p.hu célzott ban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x60 pix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detés boksz szöveges linkekkel </a:t>
                      </a: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ximum 5 lin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zöv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p.hu oldal szponzorá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gye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5295960" cy="4572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819160" y="6206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Lap.hu olda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520" y="1522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Hirdetési lehetőségek a Startlapon IV.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3038400" y="328680"/>
            <a:ext cx="2044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18080" y="620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4d85"/>
                </a:solidFill>
                <a:latin typeface="Arial"/>
              </a:rPr>
              <a:t>Startlap keres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1066680"/>
            <a:ext cx="3124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Kereső sajátosság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eresőszó szponzorizáci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p + szöveg megjelené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keresőjébe beütött kulcsszóra az Ön céges logó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maximum 100x100 pixel ), és rövid szöveges üzenete (maximum 250 karakter), valamint linkje jelenik me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alálati oldalon maximum 5 partnert jelenítünk meg a megrendelés sorrendje szer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757760" cy="4876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5960" y="6172200"/>
            <a:ext cx="46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SANOMA BUDAPEST KIADÓI Rt.  Kereskedelmi  Igazgatóság,  1036 Budapest,  Lajos u. 74-76.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Hirdetési vezetők: Thuróczy Tíme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t.thurocz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06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Palocsay Géza, </a:t>
            </a:r>
            <a:r>
              <a:rPr b="0" lang="hu-HU" sz="800" spc="-1" strike="noStrike">
                <a:solidFill>
                  <a:srgbClr val="0000ff"/>
                </a:solidFill>
                <a:latin typeface="Arial"/>
              </a:rPr>
              <a:t>g.palocsay@sanomabp.hu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telefon: 437-3625,  Fax: 437-36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On-line hirdetési igazgató: Kádas Gerge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95480" y="22860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Kapcsolódó oldalak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kereso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email-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link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media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d8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4d85"/>
                </a:solidFill>
                <a:latin typeface="Arial"/>
              </a:rPr>
              <a:t>onlinemarketing.lap.hu</a:t>
            </a:r>
            <a:endParaRPr b="0" lang="en-US" sz="3200" spc="-1" strike="noStrike">
              <a:solidFill>
                <a:srgbClr val="004d85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09480" y="5562720"/>
            <a:ext cx="3769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szönöm a figyelm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9900"/>
                </a:solidFill>
                <a:latin typeface="Arial"/>
              </a:rPr>
              <a:t>Találkozzunk a Startlap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2120" y="5622840"/>
            <a:ext cx="1666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arr Dán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artlap | Lap.h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005. április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52680" y="152280"/>
            <a:ext cx="2590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286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4788000" cy="421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1143000"/>
            <a:ext cx="33526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Startlap csoport része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főold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rovatok (9 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Lap.hu mozga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apr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ír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Játé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uta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mob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ra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artlap keres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lap rovat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143000"/>
            <a:ext cx="655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k a Startlap rovat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tematikus főoldalai, mely az aloldalak anyagaiból szemléz és egy helyre gyűjti Magyarország összes kínálatá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086600" y="990720"/>
            <a:ext cx="1879560" cy="5541840"/>
            <a:chOff x="7086600" y="990720"/>
            <a:chExt cx="1879560" cy="55418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7086600" y="1598760"/>
              <a:ext cx="187956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7086600" y="990720"/>
              <a:ext cx="1879560" cy="64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7086600" y="221940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7086600" y="282888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7086600" y="3429000"/>
              <a:ext cx="18795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086600" y="404820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7086600" y="4656240"/>
              <a:ext cx="185400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7086600" y="5267520"/>
              <a:ext cx="18540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7086600" y="5899320"/>
              <a:ext cx="1854000" cy="63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905120" y="2133720"/>
            <a:ext cx="3022560" cy="264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4280" y="2057400"/>
            <a:ext cx="14839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4d85"/>
                </a:solidFill>
                <a:latin typeface="Arial"/>
              </a:rPr>
              <a:t>Startlap rovato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ut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Áll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gat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Nő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érfi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ktat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ta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órakoz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b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1143000" y="4495680"/>
            <a:ext cx="2514600" cy="2200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4572000" y="4495680"/>
            <a:ext cx="2387520" cy="208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4724280" y="1981080"/>
            <a:ext cx="2210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6764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Lap.hu mozgalom</a:t>
            </a:r>
            <a:endParaRPr b="0" lang="en-US" sz="2800" spc="-1" strike="noStrike">
              <a:solidFill>
                <a:srgbClr val="004d85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lap.hu mozgalom holland know-how alapján jött létre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árki készíthet egy általa kiválasztott témában linkgyűjtemény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incs szükség programozói tudásra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felületet, tárhelyet és csatornát biztosít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lesz a kész oldalakkal?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Felhasználónak lesz egy saját weblapja </a:t>
            </a:r>
            <a:r>
              <a:rPr b="0" lang="hu-H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szerkesztővé váli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zerkesztő egy dinamikusan növekvő közösség részévé válik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létrehozott oldal nem kallódik el a Startlapról, illetve a </a:t>
            </a:r>
            <a:r>
              <a:rPr b="0" lang="hu-HU" sz="1400" spc="-1" strike="noStrike">
                <a:solidFill>
                  <a:srgbClr val="ff9900"/>
                </a:solidFill>
                <a:latin typeface="Arial"/>
              </a:rPr>
              <a:t>www.lap.hu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ldalról bármikor elérhető</a:t>
            </a: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4d85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425840" cy="3448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086600" y="4724280"/>
            <a:ext cx="1846440" cy="1955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410080" y="4648320"/>
            <a:ext cx="20574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4622760" cy="3732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743200" y="228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Hí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143000"/>
            <a:ext cx="396252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Hírstar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hírgyűjtő portálja, mely a legfontosabb magyar híroldalak anyagaiból szemlé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Hírstart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indig naprakész, friss információ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vatai a legkülönfélébb témákat érintik: pl. Itthon, Életmód, Gazdaság, Bulvár, Tech-tud stb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írek mellett háttéranyagok, vélemények, érdekesség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0 000 fölött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55 oldalról szemlé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napi 1300 cikket kínál az olvasókn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2005 januárjában megújult: még áttekinthetőbb, jobban strukturált és több tartal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1143000"/>
            <a:ext cx="373392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Startapró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apróhirdetési site-j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apró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lsősorban C2C tranzakciók gyűjtőhely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Érthető, jól strukturált kategóri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 keresési rends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, gyors hirdetésfeladá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10 000 fölött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Átlagosan 24 000 hirdetés található az olda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onta 1000 új hirdetés kerül f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hirdetések kb. 25%-a ingat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43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apr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5029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5280" y="1143000"/>
            <a:ext cx="5292720" cy="3525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43200" y="22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utaz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144440"/>
            <a:ext cx="3581280" cy="52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 a Startutazá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Startlap utazási irodák legkülönfélébb ajánlatait tömörítő gyűjtőolda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utazás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legnagyobb hazai online utazásközvetítő szolgáltatá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50 különböző utazás iroda ajánlatait kínál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elföldi és külföldi utak egyaránt megtalálható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Érthető, jól strukturált kategóri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nnyen kezelhető, jól áttekinthető keresési rends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szerű, gyors ügyintéz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senyképes árak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yáron 10 000 fölötti, télen 6-7 000 körüli átlagos napi látogatószá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1052640"/>
            <a:ext cx="5076720" cy="3976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743200" y="228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782b5"/>
                </a:solidFill>
                <a:latin typeface="Arial Narrow"/>
              </a:rPr>
              <a:t>A Startlap csoport - Startlap játék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1143000"/>
            <a:ext cx="363564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ik a Startlap Játék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épszerű internetes játékokat tömörítő gyűjtőold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9900"/>
                </a:solidFill>
                <a:latin typeface="Arial"/>
              </a:rPr>
              <a:t>A Startlap Játékok jellemző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átékok a legkülönbözőbb kategóriákban: logikai, autós, morbid, akció, ügyességi, kvíz, sport, stratég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pi ajánl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oplista a népszerű játékokbó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ben hazai, de leginkább külföldi site-okon található játékok linkgyűjtemény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4d85"/>
                </a:solidFill>
                <a:latin typeface="Arial"/>
              </a:rPr>
              <a:t>Amit eddig elértün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45 000 fölötti átlagos napi látogatószám (munkanapok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, mint 350 játé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iel.tarr</cp:lastModifiedBy>
  <dcterms:modified xsi:type="dcterms:W3CDTF">2005-04-11T07:17:00Z</dcterms:modified>
  <cp:revision>45</cp:revision>
  <dc:subject/>
  <dc:title>PowerPoint Presentation</dc:title>
</cp:coreProperties>
</file>