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3.jpeg" ContentType="image/jpeg"/>
  <Override PartName="/ppt/media/image22.png" ContentType="image/png"/>
  <Override PartName="/ppt/media/image21.jpeg" ContentType="image/jpeg"/>
  <Override PartName="/ppt/media/image32.wmf" ContentType="image/x-wmf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6.jpeg" ContentType="image/jpeg"/>
  <Override PartName="/ppt/media/image35.wmf" ContentType="image/x-wmf"/>
  <Override PartName="/ppt/media/image26.wmf" ContentType="image/x-wmf"/>
  <Override PartName="/ppt/media/image15.jpeg" ContentType="image/jpeg"/>
  <Override PartName="/ppt/media/image14.jpeg" ContentType="image/jpeg"/>
  <Override PartName="/ppt/media/image41.jpeg" ContentType="image/jpeg"/>
  <Override PartName="/ppt/media/image9.jpeg" ContentType="image/jpeg"/>
  <Override PartName="/ppt/media/image30.jpeg" ContentType="image/jpeg"/>
  <Override PartName="/ppt/media/image37.wmf" ContentType="image/x-wmf"/>
  <Override PartName="/ppt/media/image28.jpeg" ContentType="image/jpeg"/>
  <Override PartName="/ppt/media/image38.wmf" ContentType="image/x-wmf"/>
  <Override PartName="/ppt/media/image31.wmf" ContentType="image/x-wmf"/>
  <Override PartName="/ppt/media/image7.jpeg" ContentType="image/jpeg"/>
  <Override PartName="/ppt/media/image43.jpeg" ContentType="image/jpeg"/>
  <Override PartName="/ppt/media/image1.png" ContentType="image/png"/>
  <Override PartName="/ppt/media/image11.jpeg" ContentType="image/jpeg"/>
  <Override PartName="/ppt/media/image24.png" ContentType="image/png"/>
  <Override PartName="/ppt/media/image6.jpeg" ContentType="image/jpeg"/>
  <Override PartName="/ppt/media/image36.wmf" ContentType="image/x-wmf"/>
  <Override PartName="/ppt/media/image44.jpeg" ContentType="image/jpeg"/>
  <Override PartName="/ppt/media/image34.wmf" ContentType="image/x-wmf"/>
  <Override PartName="/ppt/media/image45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33.wmf" ContentType="image/x-wmf"/>
  <Override PartName="/ppt/media/image5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9512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d85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9512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d85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9512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d85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688B-2ABC-4C82-843E-90AAAF206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9512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d85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0C23-7B07-49FF-B09C-494EF5C3D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9512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d85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9814-00EB-42B3-8BCE-AB1824805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9512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d85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6B1F-27C7-4920-8CD2-6BEF935F2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9512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d85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AC1A-EC6E-4D59-B6FE-CDA077EEF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895120" y="304560"/>
            <a:ext cx="5791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F3CD-DB3D-4511-B0AA-0A23FEF32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9512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d85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E8A1-A43E-4684-9B11-4C00A0775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9512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d85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9512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d85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BFBE-0372-47E6-B0EC-271C31ECA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9512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d85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518F-08C5-4C56-B897-47861004F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9512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d85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3617-0C03-4A0C-BC6D-D9F93C354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9512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d85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1897-6842-4D5D-A90A-680F7D0A6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89512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d85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25D1-0E25-4B1F-82E0-C759197FA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9512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d85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9512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d85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512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d85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95120" y="304560"/>
            <a:ext cx="5791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9512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d85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9512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d85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9512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d85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82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gradFill rotWithShape="0">
            <a:gsLst>
              <a:gs pos="0">
                <a:srgbClr val="4782b5"/>
              </a:gs>
              <a:gs pos="100000">
                <a:srgbClr val="203a5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2209680"/>
          </a:xfrm>
          <a:prstGeom prst="rect">
            <a:avLst/>
          </a:prstGeom>
          <a:gradFill rotWithShape="0">
            <a:gsLst>
              <a:gs pos="0">
                <a:srgbClr val="203a50"/>
              </a:gs>
              <a:gs pos="100000">
                <a:srgbClr val="4782b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50288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5000"/>
          </a:bodyPr>
          <a:p>
            <a:pPr marL="85680" indent="-856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85760" indent="-7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85480" indent="-56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99960" indent="-56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514080" indent="-56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514080" indent="-56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514080" indent="-56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rcRect l="0" t="0" r="1083" b="3041"/>
          <a:stretch/>
        </p:blipFill>
        <p:spPr>
          <a:xfrm>
            <a:off x="609480" y="1828800"/>
            <a:ext cx="7398000" cy="298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1066680"/>
          <a:ext cx="9144000" cy="5791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066680"/>
                    <a:ext cx="914400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0" y="0"/>
            <a:ext cx="9144000" cy="1600200"/>
          </a:xfrm>
          <a:prstGeom prst="rect">
            <a:avLst/>
          </a:prstGeom>
          <a:solidFill>
            <a:srgbClr val="ffff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95280"/>
            <a:ext cx="9144000" cy="457200"/>
          </a:xfrm>
          <a:prstGeom prst="rect">
            <a:avLst/>
          </a:prstGeom>
          <a:gradFill rotWithShape="0">
            <a:gsLst>
              <a:gs pos="0">
                <a:srgbClr val="ffffcd"/>
              </a:gs>
              <a:gs pos="100000">
                <a:srgbClr val="dd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9512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d85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4d85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4d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d85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4d8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d85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4d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d85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4d8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d85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4d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d85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d85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d85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EA539-D6C8-4F8F-96AF-E42050772C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727360" cy="1125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6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9.jpeg"/><Relationship Id="rId3" Type="http://schemas.openxmlformats.org/officeDocument/2006/relationships/image" Target="../media/image21.jpeg"/><Relationship Id="rId4" Type="http://schemas.openxmlformats.org/officeDocument/2006/relationships/image" Target="../media/image23.jpe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15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82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0" y="60955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legjobb weboldalak egy hely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895120" y="15228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4782b5"/>
                </a:solidFill>
                <a:latin typeface="Arial Narrow"/>
              </a:rPr>
              <a:t>Internet használat  - trendek Magyarországon</a:t>
            </a:r>
            <a:r>
              <a:rPr b="0" lang="hu-HU" sz="4400" spc="-1" strike="noStrike">
                <a:solidFill>
                  <a:srgbClr val="4782b5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4782b5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4d85"/>
              </a:solidFill>
              <a:latin typeface="Arial Black"/>
            </a:endParaRPr>
          </a:p>
        </p:txBody>
      </p:sp>
      <p:sp>
        <p:nvSpPr>
          <p:cNvPr id="132" name=""/>
          <p:cNvSpPr/>
          <p:nvPr/>
        </p:nvSpPr>
        <p:spPr>
          <a:xfrm>
            <a:off x="2895480" y="60948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4d85"/>
                </a:solidFill>
                <a:latin typeface="Arial Narrow"/>
              </a:rPr>
              <a:t>(2004/4.</a:t>
            </a:r>
            <a:r>
              <a:rPr b="1" lang="en-US" sz="1600" spc="-1" strike="noStrike">
                <a:solidFill>
                  <a:srgbClr val="004d85"/>
                </a:solidFill>
                <a:latin typeface="Arial Narrow"/>
              </a:rPr>
              <a:t> </a:t>
            </a:r>
            <a:r>
              <a:rPr b="1" lang="hu-HU" sz="1600" spc="-1" strike="noStrike">
                <a:solidFill>
                  <a:srgbClr val="004d85"/>
                </a:solidFill>
                <a:latin typeface="Arial Narrow"/>
              </a:rPr>
              <a:t>adatok ezer főbe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0" y="609480"/>
          <a:ext cx="8915400" cy="6096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09480"/>
                    <a:ext cx="8915400" cy="609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95120" y="228600"/>
            <a:ext cx="57913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4782b5"/>
                </a:solidFill>
                <a:latin typeface="Arial Narrow"/>
              </a:rPr>
              <a:t>Internet használók tipológiája</a:t>
            </a:r>
            <a:br>
              <a:rPr sz="2400"/>
            </a:br>
            <a:r>
              <a:rPr b="1" lang="hu-HU" sz="1600" spc="-1" strike="noStrike">
                <a:solidFill>
                  <a:srgbClr val="4782b5"/>
                </a:solidFill>
                <a:latin typeface="Arial Narrow"/>
              </a:rPr>
              <a:t>(2004/4.</a:t>
            </a:r>
            <a:r>
              <a:rPr b="1" lang="en-US" sz="1600" spc="-1" strike="noStrike">
                <a:solidFill>
                  <a:srgbClr val="4782b5"/>
                </a:solidFill>
                <a:latin typeface="Arial Narrow"/>
              </a:rPr>
              <a:t> </a:t>
            </a:r>
            <a:r>
              <a:rPr b="1" lang="hu-HU" sz="1600" spc="-1" strike="noStrike">
                <a:solidFill>
                  <a:srgbClr val="4782b5"/>
                </a:solidFill>
                <a:latin typeface="Arial Narrow"/>
              </a:rPr>
              <a:t>adatok ezer főben)</a:t>
            </a:r>
            <a:endParaRPr b="0" lang="en-US" sz="1600" spc="-1" strike="noStrike">
              <a:solidFill>
                <a:srgbClr val="004d85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"/>
          </a:bodyPr>
          <a:p>
            <a:pPr lvl="1" marL="57240" indent="0" algn="ctr">
              <a:lnSpc>
                <a:spcPct val="1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4d85"/>
                </a:solidFill>
                <a:latin typeface="Arial"/>
              </a:rPr>
              <a:t>Teljes népesség</a:t>
            </a:r>
            <a:r>
              <a:rPr b="0" lang="hu-HU" sz="1600" spc="-1" strike="noStrike">
                <a:solidFill>
                  <a:srgbClr val="004d85"/>
                </a:solidFill>
                <a:latin typeface="Arial"/>
              </a:rPr>
              <a:t>: 8,503</a:t>
            </a:r>
            <a:endParaRPr b="0" lang="en-US" sz="1600" spc="-1" strike="noStrike">
              <a:solidFill>
                <a:srgbClr val="004d85"/>
              </a:solidFill>
              <a:latin typeface="Arial"/>
            </a:endParaRPr>
          </a:p>
          <a:p>
            <a:pPr lvl="1" marL="57240" indent="0" algn="ctr">
              <a:lnSpc>
                <a:spcPct val="1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d85"/>
              </a:solidFill>
              <a:latin typeface="Arial"/>
            </a:endParaRPr>
          </a:p>
          <a:p>
            <a:pPr lvl="1" marL="57240" indent="0" algn="ctr">
              <a:lnSpc>
                <a:spcPct val="1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d85"/>
              </a:solidFill>
              <a:latin typeface="Arial"/>
            </a:endParaRPr>
          </a:p>
          <a:p>
            <a:pPr lvl="1" marL="57240" indent="0">
              <a:lnSpc>
                <a:spcPct val="1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d85"/>
              </a:solidFill>
              <a:latin typeface="Arial"/>
            </a:endParaRPr>
          </a:p>
          <a:p>
            <a:pPr lvl="1" marL="57240" indent="0">
              <a:lnSpc>
                <a:spcPct val="1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4d85"/>
                </a:solidFill>
                <a:latin typeface="Arial"/>
              </a:rPr>
              <a:t>	</a:t>
            </a:r>
            <a:r>
              <a:rPr b="0" lang="hu-HU" sz="3600" spc="-1" strike="noStrike">
                <a:solidFill>
                  <a:srgbClr val="004d85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4d85"/>
              </a:solidFill>
              <a:latin typeface="Arial"/>
            </a:endParaRPr>
          </a:p>
          <a:p>
            <a:pPr lvl="1" marL="57240" indent="0">
              <a:lnSpc>
                <a:spcPct val="1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d85"/>
              </a:solidFill>
              <a:latin typeface="Arial"/>
            </a:endParaRPr>
          </a:p>
          <a:p>
            <a:pPr lvl="1" marL="57240" indent="0">
              <a:lnSpc>
                <a:spcPct val="1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d85"/>
              </a:solidFill>
              <a:latin typeface="Arial"/>
            </a:endParaRPr>
          </a:p>
          <a:p>
            <a:pPr lvl="1" marL="57240" indent="0">
              <a:lnSpc>
                <a:spcPct val="1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d85"/>
              </a:solidFill>
              <a:latin typeface="Arial"/>
            </a:endParaRPr>
          </a:p>
          <a:p>
            <a:pPr lvl="1" marL="5724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  <a:p>
            <a:pPr lvl="1" marL="5724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  <a:p>
            <a:pPr lvl="1" marL="57240" indent="0" algn="ctr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  <a:p>
            <a:pPr lvl="1" marL="57240" indent="0" algn="ctr">
              <a:lnSpc>
                <a:spcPct val="1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d85"/>
              </a:solidFill>
              <a:latin typeface="Arial"/>
            </a:endParaRPr>
          </a:p>
          <a:p>
            <a:pPr lvl="1" marL="57240" indent="0" algn="ctr">
              <a:lnSpc>
                <a:spcPct val="1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d85"/>
              </a:solidFill>
              <a:latin typeface="Arial"/>
            </a:endParaRPr>
          </a:p>
          <a:p>
            <a:pPr lvl="1" marL="57240" indent="0">
              <a:lnSpc>
                <a:spcPct val="1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3850920" y="2643120"/>
            <a:ext cx="30492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96000" y="2643120"/>
            <a:ext cx="3808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4643280" y="1809720"/>
            <a:ext cx="5040" cy="257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16000" y="3003480"/>
            <a:ext cx="38862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Internetet igénybevevők: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2,0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71640" y="2138400"/>
            <a:ext cx="39625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Van Internet hozzáférése bárhol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: 2,6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292720" y="3146400"/>
            <a:ext cx="3429000" cy="5335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em használja az Internetet: 5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835280" y="393876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284720" y="393876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284720" y="4443480"/>
            <a:ext cx="380988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ight-user: 93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- hetente egyszer vagy ritkábban Internetezi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79280" y="4133880"/>
            <a:ext cx="358164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Heavy-user: 114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- hetente többször Internetezi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050920" y="51055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50920" y="5465880"/>
            <a:ext cx="3429000" cy="5331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aponta Internetezik: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6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705720" y="601992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200" spc="-1" strike="noStrike">
                <a:solidFill>
                  <a:srgbClr val="000000"/>
                </a:solidFill>
                <a:latin typeface="Arial"/>
              </a:rPr>
              <a:t>Forrás: Sonda Ipsos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87480" y="-11160"/>
            <a:ext cx="1839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822040" y="228600"/>
            <a:ext cx="335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4782b5"/>
                </a:solidFill>
                <a:latin typeface="Arial Narrow"/>
              </a:rPr>
              <a:t>A Startlap célcsoport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075120"/>
            <a:ext cx="6363000" cy="37065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717120" y="1066680"/>
            <a:ext cx="72396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4d85"/>
                </a:solidFill>
                <a:latin typeface="Arial"/>
              </a:rPr>
              <a:t>A célcsoport jellemzői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16-49 év közötti internetező fiatal AB társadalmi státuszú felnőtte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lalkozók, döntéshozók vagy  szellemi vezetők, beosztottak, felsőfokú végzettségűe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nkább Budapesten vagy vidéki nagyvárosban élne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unkahelyükön, otthon, vagy felsőoktatási intézményekben gyakran szörfözne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Gyors tájékozódást helyezik előtér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Örömmel és tudatosan keresnek hasznos információkat és kikapcsolódást a ne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42840" y="228600"/>
            <a:ext cx="6095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4782b5"/>
                </a:solidFill>
                <a:latin typeface="Arial Narrow"/>
              </a:rPr>
              <a:t>A Startlap-recept titka</a:t>
            </a:r>
            <a:endParaRPr b="0" lang="en-US" sz="2800" spc="-1" strike="noStrike">
              <a:solidFill>
                <a:srgbClr val="004d85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114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látogatók az Internethez való viszonyulásuk alapján három csoportba sorolhatók:</a:t>
            </a: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Új felhasználók: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Most ismerkednek a web-bel segítségre van szükségük</a:t>
            </a: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Gyakorlott felhasználók: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endszeres Internetezők, bizonyos információk után kutatnak, kevés az idejük</a:t>
            </a: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Fanatikus felhasználók: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indig új tartalmak után kutatnak, kíváncsiskodók</a:t>
            </a: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028840" y="1218960"/>
            <a:ext cx="38098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Startlap recept titka:</a:t>
            </a: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iacelemzés, tervszerűség, következetesség</a:t>
            </a: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emzetközi know-how</a:t>
            </a: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zigorú szerkesztőségi alapelvek</a:t>
            </a: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inőségi kontroll</a:t>
            </a: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udatos egyszerűség és áttekinthetőség</a:t>
            </a: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okféleség</a:t>
            </a: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öbb száz lelkes oldal szerkesztő</a:t>
            </a: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ségépítés</a:t>
            </a: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orlátlan lehetőségek, alkotói szabadság</a:t>
            </a: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aláló &amp; Egyszerű márkanév</a:t>
            </a: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33520" y="4343400"/>
            <a:ext cx="2590560" cy="22669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3276720" y="4375080"/>
            <a:ext cx="2514600" cy="22003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5943600" y="4343400"/>
            <a:ext cx="251460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895120" y="228600"/>
            <a:ext cx="6248520" cy="5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4782b5"/>
                </a:solidFill>
                <a:latin typeface="Arial Narrow"/>
              </a:rPr>
              <a:t>Startlap látogatók demográfiája I.</a:t>
            </a:r>
            <a:endParaRPr b="0" lang="en-US" sz="2800" spc="-1" strike="noStrike">
              <a:solidFill>
                <a:srgbClr val="004d85"/>
              </a:solidFill>
              <a:latin typeface="Arial Black"/>
            </a:endParaRPr>
          </a:p>
        </p:txBody>
      </p:sp>
      <p:sp>
        <p:nvSpPr>
          <p:cNvPr id="161" name=""/>
          <p:cNvSpPr/>
          <p:nvPr/>
        </p:nvSpPr>
        <p:spPr>
          <a:xfrm>
            <a:off x="763200" y="1538280"/>
            <a:ext cx="21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000099"/>
                </a:solidFill>
                <a:uFillTx/>
                <a:latin typeface="Arial"/>
              </a:rPr>
              <a:t>Startlap látogató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3657600" y="3197160"/>
          <a:ext cx="5486400" cy="36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3197160"/>
                    <a:ext cx="5486400" cy="36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5365800" y="3716280"/>
            <a:ext cx="24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000099"/>
                </a:solidFill>
                <a:uFillTx/>
                <a:latin typeface="Arial"/>
              </a:rPr>
              <a:t>Gyakori internetező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57200" y="380880"/>
          <a:ext cx="6813720" cy="5176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80880"/>
                    <a:ext cx="6813720" cy="51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228600" y="5791320"/>
            <a:ext cx="300996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200" spc="-1" strike="noStrike">
                <a:solidFill>
                  <a:srgbClr val="000000"/>
                </a:solidFill>
                <a:latin typeface="Arial"/>
              </a:rPr>
              <a:t>Forrás: Szonda Média Navigá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200" spc="-1" strike="noStrike">
                <a:solidFill>
                  <a:srgbClr val="000000"/>
                </a:solidFill>
                <a:latin typeface="Arial"/>
              </a:rPr>
              <a:t>2004.II.-III.negyedé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200" spc="-1" strike="noStrike">
                <a:solidFill>
                  <a:srgbClr val="000000"/>
                </a:solidFill>
                <a:latin typeface="Arial"/>
              </a:rPr>
              <a:t>Bázis: Internet hozzáféréssel rendelkezők, Startlap látogat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895480" y="228600"/>
            <a:ext cx="6096240" cy="5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4782b5"/>
                </a:solidFill>
                <a:latin typeface="Arial Narrow"/>
              </a:rPr>
              <a:t>Startlap látogatók demográfiája II.</a:t>
            </a:r>
            <a:endParaRPr b="0" lang="en-US" sz="2800" spc="-1" strike="noStrike">
              <a:solidFill>
                <a:srgbClr val="004d85"/>
              </a:solidFill>
              <a:latin typeface="Arial Black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304920" y="762120"/>
          <a:ext cx="7019640" cy="4956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762120"/>
                    <a:ext cx="7019640" cy="49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839520" y="1600200"/>
            <a:ext cx="21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000099"/>
                </a:solidFill>
                <a:uFillTx/>
                <a:latin typeface="Arial"/>
              </a:rPr>
              <a:t>Startlap látogató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259600" y="3809880"/>
            <a:ext cx="24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000099"/>
                </a:solidFill>
                <a:uFillTx/>
                <a:latin typeface="Arial"/>
              </a:rPr>
              <a:t>Gyakori internetező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81080" y="5762520"/>
            <a:ext cx="3095640" cy="9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200" spc="-1" strike="noStrike">
                <a:solidFill>
                  <a:srgbClr val="000000"/>
                </a:solidFill>
                <a:latin typeface="Arial"/>
              </a:rPr>
              <a:t>Forrás: Szonda Média Navigá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200" spc="-1" strike="noStrike">
                <a:solidFill>
                  <a:srgbClr val="000000"/>
                </a:solidFill>
                <a:latin typeface="Arial"/>
              </a:rPr>
              <a:t>2004.II.-III.negyedé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200" spc="-1" strike="noStrike">
                <a:solidFill>
                  <a:srgbClr val="000000"/>
                </a:solidFill>
                <a:latin typeface="Arial"/>
              </a:rPr>
              <a:t>Bázis: Internet hozzáféréssel rendelkezők, Startlap látogat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3962520" y="3614760"/>
          <a:ext cx="5638680" cy="3776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62520" y="3614760"/>
                    <a:ext cx="5638680" cy="37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819520" y="228600"/>
            <a:ext cx="5790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4782b5"/>
                </a:solidFill>
                <a:latin typeface="Arial Narrow"/>
              </a:rPr>
              <a:t>Startlap látogatottsági számok</a:t>
            </a:r>
            <a:endParaRPr b="0" lang="en-US" sz="2800" spc="-1" strike="noStrike">
              <a:solidFill>
                <a:srgbClr val="004d85"/>
              </a:solidFill>
              <a:latin typeface="Arial Black"/>
            </a:endParaRPr>
          </a:p>
        </p:txBody>
      </p:sp>
      <p:sp>
        <p:nvSpPr>
          <p:cNvPr id="177" name=""/>
          <p:cNvSpPr/>
          <p:nvPr/>
        </p:nvSpPr>
        <p:spPr>
          <a:xfrm>
            <a:off x="6748560" y="6400800"/>
            <a:ext cx="239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200" spc="-1" strike="noStrike">
                <a:solidFill>
                  <a:srgbClr val="000000"/>
                </a:solidFill>
                <a:latin typeface="Arial"/>
              </a:rPr>
              <a:t>Forrás: Medián Webaud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18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1855800"/>
          <a:ext cx="8763120" cy="446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855800"/>
                    <a:ext cx="8763120" cy="44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152280" y="1066680"/>
            <a:ext cx="8610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HEideticModern"/>
              </a:rPr>
              <a:t>A Startlap napi látogatottsága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HEideticModern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HEideticModern"/>
              </a:rPr>
              <a:t>A Startlap 2005-ben szinte minden nap közelíti az 500 000 egyedi látogató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819520" y="228600"/>
            <a:ext cx="4952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4782b5"/>
                </a:solidFill>
                <a:latin typeface="Arial Narrow"/>
              </a:rPr>
              <a:t>Startlap nyitóoldali látogatottság</a:t>
            </a:r>
            <a:endParaRPr b="0" lang="en-US" sz="2800" spc="-1" strike="noStrike">
              <a:solidFill>
                <a:srgbClr val="004d85"/>
              </a:solidFill>
              <a:latin typeface="Arial Black"/>
            </a:endParaRPr>
          </a:p>
        </p:txBody>
      </p:sp>
      <p:sp>
        <p:nvSpPr>
          <p:cNvPr id="183" name=""/>
          <p:cNvSpPr/>
          <p:nvPr/>
        </p:nvSpPr>
        <p:spPr>
          <a:xfrm>
            <a:off x="6748560" y="6400800"/>
            <a:ext cx="239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200" spc="-1" strike="noStrike">
                <a:solidFill>
                  <a:srgbClr val="000000"/>
                </a:solidFill>
                <a:latin typeface="Arial"/>
              </a:rPr>
              <a:t>Forrás: Medián Webaud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8001000" cy="47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742840" y="22860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4782b5"/>
                </a:solidFill>
                <a:latin typeface="Arial Narrow"/>
              </a:rPr>
              <a:t>A Startlap egyes rovatainak látogatottsága</a:t>
            </a:r>
            <a:endParaRPr b="0" lang="en-US" sz="2800" spc="-1" strike="noStrike">
              <a:solidFill>
                <a:srgbClr val="004d85"/>
              </a:solidFill>
              <a:latin typeface="Arial Black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" y="5668920"/>
            <a:ext cx="259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Egyedi látogatószám (unique us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748560" y="6400800"/>
            <a:ext cx="239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200" spc="-1" strike="noStrike">
                <a:solidFill>
                  <a:srgbClr val="000000"/>
                </a:solidFill>
                <a:latin typeface="Arial"/>
              </a:rPr>
              <a:t>Forrás: Medián Webaud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745720" y="685800"/>
            <a:ext cx="109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 Narrow"/>
              </a:rPr>
              <a:t>2004-es átla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457200" y="1295280"/>
          <a:ext cx="8229600" cy="4391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95280"/>
                    <a:ext cx="8229600" cy="439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819520" y="152280"/>
            <a:ext cx="5790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4782b5"/>
                </a:solidFill>
                <a:latin typeface="Arial Narrow"/>
              </a:rPr>
              <a:t>Az Online reklámköltés évente</a:t>
            </a:r>
            <a:endParaRPr b="0" lang="en-US" sz="2800" spc="-1" strike="noStrike">
              <a:solidFill>
                <a:srgbClr val="004d85"/>
              </a:solidFill>
              <a:latin typeface="Arial Black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380880" y="1506600"/>
          <a:ext cx="8534520" cy="4346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506600"/>
                    <a:ext cx="8534520" cy="434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6702840" y="6400800"/>
            <a:ext cx="217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200" spc="-1" strike="noStrike">
                <a:solidFill>
                  <a:srgbClr val="000000"/>
                </a:solidFill>
                <a:latin typeface="Arial"/>
              </a:rPr>
              <a:t>Forrás: MRSZ jelentés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4343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4782b5"/>
                </a:solidFill>
                <a:latin typeface="Arial Narrow"/>
              </a:rPr>
              <a:t>Küldetése és szerkezete</a:t>
            </a:r>
            <a:r>
              <a:rPr b="0" lang="hu-HU" sz="4400" spc="-1" strike="noStrike">
                <a:solidFill>
                  <a:srgbClr val="4782b5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4d85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Mi a Startlap? - </a:t>
            </a:r>
            <a:r>
              <a:rPr b="1" lang="hu-HU" sz="1400" spc="-1" strike="noStrike">
                <a:solidFill>
                  <a:srgbClr val="0000ff"/>
                </a:solidFill>
                <a:latin typeface="Arial"/>
              </a:rPr>
              <a:t>Az Internet legjobb weblapjainak rendszerezett, tematikus gyűjteménye</a:t>
            </a: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4d85"/>
                </a:solidFill>
                <a:latin typeface="Arial"/>
              </a:rPr>
              <a:t>Küldetése: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 Olyan mozgalom, melynek célja az Internet értékeinek  felkutatása, terjesztése, megismertetése egyszerű és áttekinthető módon. Fő célja, hogy Magyarország kereső központjává váljon.</a:t>
            </a: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4d85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4d85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9900"/>
                </a:solidFill>
                <a:latin typeface="Arial"/>
              </a:rPr>
              <a:t>ALAPÉRTÉKEK</a:t>
            </a: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aktikus: Könnyen keresek, gyorsan találok</a:t>
            </a: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Áttekinthető: Téma szerinti kategóriák </a:t>
            </a: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okoldalú: Az élet minden területe </a:t>
            </a: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egbízható: Biztos linkek</a:t>
            </a: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inőségi: Folyamatos kontroll &amp; karbantartás</a:t>
            </a: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Hasznos: Naprakész információk</a:t>
            </a: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Gyors letöltődés: Az idő pénz</a:t>
            </a: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zabad: Szerkessz  te is!</a:t>
            </a: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9900"/>
                </a:solidFill>
                <a:latin typeface="Arial"/>
              </a:rPr>
              <a:t>SZERKEZETE</a:t>
            </a: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9 rovat</a:t>
            </a: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52 tematikus doboz</a:t>
            </a: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öbb mint 400 link a nyitóoldalon</a:t>
            </a: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9900"/>
                </a:solidFill>
                <a:latin typeface="Arial"/>
              </a:rPr>
              <a:t>LAP.HU mozgalom</a:t>
            </a: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öbb mint 2 900 tematikus oldal</a:t>
            </a: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öbb mint 1 600 szerkesztő</a:t>
            </a: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6920" y="2978280"/>
            <a:ext cx="426708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4d85"/>
                </a:solidFill>
                <a:latin typeface="Arial"/>
              </a:rPr>
              <a:t>Amit eddig elértünk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Leglátogatottabb nyitóold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második leglátogatottabb s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u-HU" sz="1400" spc="-1" strike="noStrike">
                <a:solidFill>
                  <a:srgbClr val="004d85"/>
                </a:solidFill>
                <a:latin typeface="Arial"/>
              </a:rPr>
              <a:t>2 900 Lap.hu old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agyarország legnagyobb online szerkesztősé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öbb mint </a:t>
            </a:r>
            <a:r>
              <a:rPr b="1" lang="hu-HU" sz="1400" spc="-1" strike="noStrike">
                <a:solidFill>
                  <a:srgbClr val="004d85"/>
                </a:solidFill>
                <a:latin typeface="Arial"/>
              </a:rPr>
              <a:t>1600 szerkeszt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aját kereső, játék, apróhirdetési és fórum szolgáltatá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Heti hírlevé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öbb mint </a:t>
            </a:r>
            <a:r>
              <a:rPr b="1" lang="hu-HU" sz="1400" spc="-1" strike="noStrike">
                <a:solidFill>
                  <a:srgbClr val="004d85"/>
                </a:solidFill>
                <a:latin typeface="Arial"/>
              </a:rPr>
              <a:t>150 000 regisztrált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4d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819520" y="152280"/>
            <a:ext cx="5790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4782b5"/>
                </a:solidFill>
                <a:latin typeface="Arial Narrow"/>
              </a:rPr>
              <a:t>A Startlapon történő hirdetés előnyei</a:t>
            </a:r>
            <a:endParaRPr b="0" lang="en-US" sz="2800" spc="-1" strike="noStrike">
              <a:solidFill>
                <a:srgbClr val="004d85"/>
              </a:solidFill>
              <a:latin typeface="Arial Black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380880" y="1295280"/>
          <a:ext cx="8458200" cy="3327480"/>
        </p:xfrm>
        <a:graphic>
          <a:graphicData uri="http://schemas.openxmlformats.org/drawingml/2006/table">
            <a:tbl>
              <a:tblPr/>
              <a:tblGrid>
                <a:gridCol w="3962160"/>
                <a:gridCol w="4496040"/>
              </a:tblGrid>
              <a:tr h="33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4d85"/>
                          </a:solidFill>
                          <a:latin typeface="Arial"/>
                        </a:rPr>
                        <a:t>Egyedi hirdetési előnyö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as Rea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dszeres internetező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atikus oldala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lap végig a háttérb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csony PI / Ses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ner a lapok tetejé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ikus old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yitólapon egy darab bann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4d85"/>
                          </a:solidFill>
                          <a:latin typeface="Arial"/>
                        </a:rPr>
                        <a:t>Hirdetésből származó hasz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hirdetés nagy tömegekhez jut 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Őket itt érheti 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váló targetálási lehetősé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felhasználó többször találkozik a hirdetéssel felár nélkü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m hirdetéstemető, nem kidobott pénz itt hirdet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rtékes felület piaci átlag alatti ár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hirdetés figyelemfelkelt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ás hirdetés nem vonja el a figyelm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657600" y="5068800"/>
            <a:ext cx="1905120" cy="14842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5562720" y="5029200"/>
            <a:ext cx="1752480" cy="1533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7315200" y="5029200"/>
            <a:ext cx="1600200" cy="15368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1981080" y="5029200"/>
            <a:ext cx="1600200" cy="15397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5"/>
          <a:stretch/>
        </p:blipFill>
        <p:spPr>
          <a:xfrm>
            <a:off x="228600" y="5105520"/>
            <a:ext cx="1676520" cy="13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819520" y="152280"/>
            <a:ext cx="5790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4782b5"/>
                </a:solidFill>
                <a:latin typeface="Arial Narrow"/>
              </a:rPr>
              <a:t>Hirdetési lehetőségek a Startlapon I.</a:t>
            </a:r>
            <a:endParaRPr b="0" lang="en-US" sz="2800" spc="-1" strike="noStrike">
              <a:solidFill>
                <a:srgbClr val="004d85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743200" y="4191120"/>
            <a:ext cx="2590920" cy="25146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5638680" y="4229280"/>
            <a:ext cx="2971800" cy="2476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719280" y="4191120"/>
            <a:ext cx="1681200" cy="25146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895480" y="3443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038400" y="328680"/>
            <a:ext cx="2044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609480" y="1208160"/>
          <a:ext cx="8077320" cy="2830320"/>
        </p:xfrm>
        <a:graphic>
          <a:graphicData uri="http://schemas.openxmlformats.org/drawingml/2006/table">
            <a:tbl>
              <a:tblPr/>
              <a:tblGrid>
                <a:gridCol w="4800600"/>
                <a:gridCol w="32767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4d85"/>
                          </a:solidFill>
                          <a:latin typeface="Arial"/>
                        </a:rPr>
                        <a:t>Hirdetési felül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4d85"/>
                          </a:solidFill>
                          <a:latin typeface="Arial"/>
                        </a:rPr>
                        <a:t>Mér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yitóoldal felső bann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0x60 pix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ke over </a:t>
                      </a: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Felső bannerből, vagy kreatív boxból kinyíló felüle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kreatív méretének maximum 100%-os növekedés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yitóoldal boksz szöveges linkekkel </a:t>
                      </a: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aximum 5 link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k szöveg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yitóoldal banner boksz, napi á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2x250 pix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aped pop up </a:t>
                      </a: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 megjelenési lehetőségek a doboz alatt láthatóak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2x250 pix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x álló boksz </a:t>
                      </a: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z oldal jobb felső részén fix helyen a tartalmi doboz mellet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x300, 216x380, 450x250-es méretekb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 un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x2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 u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x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írlevél/alkalom </a:t>
                      </a: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57ezer kiküldé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x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2819520" y="620640"/>
            <a:ext cx="227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4d85"/>
                </a:solidFill>
                <a:latin typeface="Arial"/>
              </a:rPr>
              <a:t>Startlap nyitó old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819520" y="228600"/>
            <a:ext cx="5790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4782b5"/>
                </a:solidFill>
                <a:latin typeface="Arial Narrow"/>
              </a:rPr>
              <a:t>Hirdetési lehetőségek a Startlapon II.</a:t>
            </a:r>
            <a:endParaRPr b="0" lang="en-US" sz="2800" spc="-1" strike="noStrike">
              <a:solidFill>
                <a:srgbClr val="004d85"/>
              </a:solidFill>
              <a:latin typeface="Arial Black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533520" y="1447920"/>
          <a:ext cx="3809880" cy="4230720"/>
        </p:xfrm>
        <a:graphic>
          <a:graphicData uri="http://schemas.openxmlformats.org/drawingml/2006/table">
            <a:tbl>
              <a:tblPr/>
              <a:tblGrid>
                <a:gridCol w="3809880"/>
              </a:tblGrid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4d85"/>
                          </a:solidFill>
                          <a:latin typeface="Arial"/>
                        </a:rPr>
                        <a:t>Hirdetési felül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zuper bann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ülönleges </a:t>
                      </a: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akeover..stb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emelt full grafikus fix doboz </a:t>
                      </a: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zöveg, álló, vagy mozgó képpe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eatív doboz </a:t>
                      </a: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0x100-as képpel, 50 karakternyi címmel 250 karakternyi szöveggel és 5 linkke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resőform elhelyezése </a:t>
                      </a: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sak releváns tartalom helyezhető e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vatszponzoráció </a:t>
                      </a: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banner+kiemelt doboz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 un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x álló boksz </a:t>
                      </a: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z oldal jobb felső részén fix helyen a tartalmi doboz mellet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12" name=""/>
          <p:cNvSpPr/>
          <p:nvPr/>
        </p:nvSpPr>
        <p:spPr>
          <a:xfrm>
            <a:off x="2895480" y="3443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38400" y="328680"/>
            <a:ext cx="2044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4648320" y="1371600"/>
            <a:ext cx="4267080" cy="35179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818080" y="62064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4d85"/>
                </a:solidFill>
                <a:latin typeface="Arial"/>
              </a:rPr>
              <a:t>Startlap rovat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7467480" y="5105520"/>
          <a:ext cx="1447560" cy="1457280"/>
        </p:xfrm>
        <a:graphic>
          <a:graphicData uri="http://schemas.openxmlformats.org/drawingml/2006/table">
            <a:tbl>
              <a:tblPr/>
              <a:tblGrid>
                <a:gridCol w="144756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rdetési linke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hel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 hel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 hel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 hel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 hel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"/>
          <p:cNvSpPr/>
          <p:nvPr/>
        </p:nvSpPr>
        <p:spPr>
          <a:xfrm>
            <a:off x="75960" y="6172200"/>
            <a:ext cx="465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SANOMA BUDAPEST KIADÓI Rt.  Kereskedelmi  Igazgatóság,  1036 Budapest,  Lajos u. 74-76.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Hirdetési vezetők: Thuróczy Tímea, </a:t>
            </a:r>
            <a:r>
              <a:rPr b="0" lang="hu-HU" sz="800" spc="-1" strike="noStrike">
                <a:solidFill>
                  <a:srgbClr val="0000ff"/>
                </a:solidFill>
                <a:latin typeface="Arial"/>
              </a:rPr>
              <a:t>t.thuroczy@sanomabp.hu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 Telefon: 437-3606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Palocsay Géza, </a:t>
            </a:r>
            <a:r>
              <a:rPr b="0" lang="hu-HU" sz="800" spc="-1" strike="noStrike">
                <a:solidFill>
                  <a:srgbClr val="0000ff"/>
                </a:solidFill>
                <a:latin typeface="Arial"/>
              </a:rPr>
              <a:t>g.palocsay@sanomabp.hu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 telefon: 437-3625,  Fax: 437-36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On-line hirdetési igazgató: Kádas Gerge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819520" y="152280"/>
            <a:ext cx="5790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4782b5"/>
                </a:solidFill>
                <a:latin typeface="Arial Narrow"/>
              </a:rPr>
              <a:t>Hirdetési lehetőségek a Startlapon III.</a:t>
            </a:r>
            <a:endParaRPr b="0" lang="en-US" sz="2800" spc="-1" strike="noStrike">
              <a:solidFill>
                <a:srgbClr val="004d85"/>
              </a:solidFill>
              <a:latin typeface="Arial Black"/>
            </a:endParaRPr>
          </a:p>
        </p:txBody>
      </p:sp>
      <p:sp>
        <p:nvSpPr>
          <p:cNvPr id="219" name=""/>
          <p:cNvSpPr/>
          <p:nvPr/>
        </p:nvSpPr>
        <p:spPr>
          <a:xfrm>
            <a:off x="3038400" y="328680"/>
            <a:ext cx="2044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609480" y="1428840"/>
          <a:ext cx="2590920" cy="4514760"/>
        </p:xfrm>
        <a:graphic>
          <a:graphicData uri="http://schemas.openxmlformats.org/drawingml/2006/table">
            <a:tbl>
              <a:tblPr/>
              <a:tblGrid>
                <a:gridCol w="1752840"/>
                <a:gridCol w="838080"/>
              </a:tblGrid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4d85"/>
                          </a:solidFill>
                          <a:latin typeface="Arial"/>
                        </a:rPr>
                        <a:t>Hirdetési felül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4d85"/>
                          </a:solidFill>
                          <a:latin typeface="Arial"/>
                        </a:rPr>
                        <a:t>Mér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4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Kiemelt Ajánlat" saját doboz a lap.hu oldal felső felületé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4x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p.hu célzott bann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4x60 pix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6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rdetés boksz szöveges linkekkel </a:t>
                      </a: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aximum 5 link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k szöve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9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p.hu oldal szponzoráci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gyed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3505320" y="1371600"/>
            <a:ext cx="5295960" cy="45720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819160" y="620640"/>
            <a:ext cx="18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4d85"/>
                </a:solidFill>
                <a:latin typeface="Arial"/>
              </a:rPr>
              <a:t>Lap.hu oldal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5960" y="6172200"/>
            <a:ext cx="465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SANOMA BUDAPEST KIADÓI Rt.  Kereskedelmi  Igazgatóság,  1036 Budapest,  Lajos u. 74-76.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Hirdetési vezetők: Thuróczy Tímea, </a:t>
            </a:r>
            <a:r>
              <a:rPr b="0" lang="hu-HU" sz="800" spc="-1" strike="noStrike">
                <a:solidFill>
                  <a:srgbClr val="0000ff"/>
                </a:solidFill>
                <a:latin typeface="Arial"/>
              </a:rPr>
              <a:t>t.thuroczy@sanomabp.hu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 Telefon: 437-3606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Palocsay Géza, </a:t>
            </a:r>
            <a:r>
              <a:rPr b="0" lang="hu-HU" sz="800" spc="-1" strike="noStrike">
                <a:solidFill>
                  <a:srgbClr val="0000ff"/>
                </a:solidFill>
                <a:latin typeface="Arial"/>
              </a:rPr>
              <a:t>g.palocsay@sanomabp.hu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 telefon: 437-3625,  Fax: 437-36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On-line hirdetési igazgató: Kádas Gerge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819520" y="152280"/>
            <a:ext cx="5790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4782b5"/>
                </a:solidFill>
                <a:latin typeface="Arial Narrow"/>
              </a:rPr>
              <a:t>Hirdetési lehetőségek a Startlapon IV.</a:t>
            </a:r>
            <a:endParaRPr b="0" lang="en-US" sz="2800" spc="-1" strike="noStrike">
              <a:solidFill>
                <a:srgbClr val="004d85"/>
              </a:solidFill>
              <a:latin typeface="Arial Black"/>
            </a:endParaRPr>
          </a:p>
        </p:txBody>
      </p:sp>
      <p:sp>
        <p:nvSpPr>
          <p:cNvPr id="225" name=""/>
          <p:cNvSpPr/>
          <p:nvPr/>
        </p:nvSpPr>
        <p:spPr>
          <a:xfrm>
            <a:off x="3038400" y="328680"/>
            <a:ext cx="2044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818080" y="620640"/>
            <a:ext cx="189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4d85"/>
                </a:solidFill>
                <a:latin typeface="Arial"/>
              </a:rPr>
              <a:t>Startlap keres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4920" y="1066680"/>
            <a:ext cx="312408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Startlap Kereső sajátosságai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eresőszó szponzorizáció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ép + szöveg megjelené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Startlap keresőjébe beütött kulcsszóra az Ön céges logój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maximum 100x100 pixel ), és rövid szöveges üzenete (maximum 250 karakter), valamint linkje jelenik meg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találati oldalon maximum 5 partnert jelenítünk meg a megrendelés sorrendje szeri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038480" y="1219320"/>
            <a:ext cx="4757760" cy="487656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75960" y="6172200"/>
            <a:ext cx="465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SANOMA BUDAPEST KIADÓI Rt.  Kereskedelmi  Igazgatóság,  1036 Budapest,  Lajos u. 74-76.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Hirdetési vezetők: Thuróczy Tímea, </a:t>
            </a:r>
            <a:r>
              <a:rPr b="0" lang="hu-HU" sz="800" spc="-1" strike="noStrike">
                <a:solidFill>
                  <a:srgbClr val="0000ff"/>
                </a:solidFill>
                <a:latin typeface="Arial"/>
              </a:rPr>
              <a:t>t.thuroczy@sanomabp.hu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 Telefon: 437-3606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Palocsay Géza, </a:t>
            </a:r>
            <a:r>
              <a:rPr b="0" lang="hu-HU" sz="800" spc="-1" strike="noStrike">
                <a:solidFill>
                  <a:srgbClr val="0000ff"/>
                </a:solidFill>
                <a:latin typeface="Arial"/>
              </a:rPr>
              <a:t>g.palocsay@sanomabp.hu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 telefon: 437-3625,  Fax: 437-36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On-line hirdetési igazgató: Kádas Gerge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895480" y="228600"/>
            <a:ext cx="3657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4782b5"/>
                </a:solidFill>
                <a:latin typeface="Arial Narrow"/>
              </a:rPr>
              <a:t>Kapcsolódó oldalak</a:t>
            </a:r>
            <a:endParaRPr b="0" lang="en-US" sz="2800" spc="-1" strike="noStrike">
              <a:solidFill>
                <a:srgbClr val="004d85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d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4d85"/>
                </a:solidFill>
                <a:latin typeface="Arial"/>
              </a:rPr>
              <a:t>keresomarketing.lap.hu</a:t>
            </a: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4d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4d85"/>
                </a:solidFill>
                <a:latin typeface="Arial"/>
              </a:rPr>
              <a:t>email-marketing.lap.hu</a:t>
            </a: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4d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4d85"/>
                </a:solidFill>
                <a:latin typeface="Arial"/>
              </a:rPr>
              <a:t>linkmarketing.lap.hu</a:t>
            </a: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4d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4d85"/>
                </a:solidFill>
                <a:latin typeface="Arial"/>
              </a:rPr>
              <a:t>marketing.lap.hu</a:t>
            </a: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4d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4d85"/>
                </a:solidFill>
                <a:latin typeface="Arial"/>
              </a:rPr>
              <a:t>media.lap.hu</a:t>
            </a: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4d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4d85"/>
                </a:solidFill>
                <a:latin typeface="Arial"/>
              </a:rPr>
              <a:t>onlinemarketing.lap.hu</a:t>
            </a: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109480" y="5562720"/>
            <a:ext cx="37699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öszönöm a figyelm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ff9900"/>
                </a:solidFill>
                <a:latin typeface="Arial"/>
              </a:rPr>
              <a:t>Találkozzunk a Startlap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72120" y="5622840"/>
            <a:ext cx="1666800" cy="7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Tarr Dáni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tartlap | Lap.h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2005. április 1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352680" y="152280"/>
            <a:ext cx="25909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2860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4782b5"/>
                </a:solidFill>
                <a:latin typeface="Arial Narrow"/>
              </a:rPr>
              <a:t>A Startlap cso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5280" y="1125360"/>
            <a:ext cx="184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809880" y="1143000"/>
            <a:ext cx="4788000" cy="4213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4920" y="1143000"/>
            <a:ext cx="33526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Startlap csoport részei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tartlap főold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tartlap rovatok (9 d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Lap.hu mozgal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tartlap apró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Hír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tartlap Játéko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tartutazá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tartmob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tartra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tartlap keres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74320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4782b5"/>
                </a:solidFill>
                <a:latin typeface="Arial Narrow"/>
              </a:rPr>
              <a:t>A Startlap csoport - Startlap rovat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1143000"/>
            <a:ext cx="65530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ik a Startlap rovatok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Startlap tematikus főoldalai, mely az aloldalak anyagaiból szemléz és egy helyre gyűjti Magyarország összes kínálatá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7086600" y="990720"/>
            <a:ext cx="1879560" cy="5541840"/>
            <a:chOff x="7086600" y="990720"/>
            <a:chExt cx="1879560" cy="5541840"/>
          </a:xfrm>
        </p:grpSpPr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7086600" y="1598760"/>
              <a:ext cx="1879560" cy="64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7086600" y="990720"/>
              <a:ext cx="1879560" cy="64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3"/>
            <a:stretch/>
          </p:blipFill>
          <p:spPr>
            <a:xfrm>
              <a:off x="7086600" y="2219400"/>
              <a:ext cx="1854000" cy="63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4"/>
            <a:stretch/>
          </p:blipFill>
          <p:spPr>
            <a:xfrm>
              <a:off x="7086600" y="2828880"/>
              <a:ext cx="1854000" cy="63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5"/>
            <a:stretch/>
          </p:blipFill>
          <p:spPr>
            <a:xfrm>
              <a:off x="7086600" y="3429000"/>
              <a:ext cx="1879560" cy="64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7086600" y="4048200"/>
              <a:ext cx="1854000" cy="63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7"/>
            <a:stretch/>
          </p:blipFill>
          <p:spPr>
            <a:xfrm>
              <a:off x="7086600" y="4656240"/>
              <a:ext cx="1854000" cy="63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8"/>
            <a:stretch/>
          </p:blipFill>
          <p:spPr>
            <a:xfrm>
              <a:off x="7086600" y="5267520"/>
              <a:ext cx="1854000" cy="63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9"/>
            <a:stretch/>
          </p:blipFill>
          <p:spPr>
            <a:xfrm>
              <a:off x="7086600" y="5899320"/>
              <a:ext cx="1854000" cy="633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8" name="" descr=""/>
          <p:cNvPicPr/>
          <p:nvPr/>
        </p:nvPicPr>
        <p:blipFill>
          <a:blip r:embed="rId10"/>
          <a:stretch/>
        </p:blipFill>
        <p:spPr>
          <a:xfrm>
            <a:off x="1905120" y="2133720"/>
            <a:ext cx="3022560" cy="26445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24280" y="2057400"/>
            <a:ext cx="148392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4d85"/>
                </a:solidFill>
                <a:latin typeface="Arial"/>
              </a:rPr>
              <a:t>Startlap rovatok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utó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Állá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ngat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Nő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Férfia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Oktatá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Utazá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zórakozá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ob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1"/>
          <a:stretch/>
        </p:blipFill>
        <p:spPr>
          <a:xfrm>
            <a:off x="1143000" y="4495680"/>
            <a:ext cx="2514600" cy="22003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12"/>
          <a:stretch/>
        </p:blipFill>
        <p:spPr>
          <a:xfrm>
            <a:off x="4572000" y="4495680"/>
            <a:ext cx="2387520" cy="20894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13"/>
          <a:stretch/>
        </p:blipFill>
        <p:spPr>
          <a:xfrm>
            <a:off x="4724280" y="1981080"/>
            <a:ext cx="22100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666880" y="0"/>
            <a:ext cx="6764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4782b5"/>
                </a:solidFill>
                <a:latin typeface="Arial Narrow"/>
              </a:rPr>
              <a:t>A Lap.hu mozgalom</a:t>
            </a:r>
            <a:endParaRPr b="0" lang="en-US" sz="2800" spc="-1" strike="noStrike">
              <a:solidFill>
                <a:srgbClr val="004d85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3505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lap.hu mozgalom holland know-how alapján jött létre</a:t>
            </a: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Bárki készíthet egy általa kiválasztott témában linkgyűjteményt</a:t>
            </a: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incs szükség programozói tudásra</a:t>
            </a: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Startlap felületet, tárhelyet és csatornát biztosít</a:t>
            </a: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i lesz a kész oldalakkal?</a:t>
            </a: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Felhasználónak lesz egy saját weblapja </a:t>
            </a:r>
            <a:r>
              <a:rPr b="0" lang="hu-HU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szerkesztővé válik</a:t>
            </a: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Szerkesztő egy dinamikusan növekvő közösség részévé válik</a:t>
            </a: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létrehozott oldal nem kallódik el a Startlapról, illetve a </a:t>
            </a:r>
            <a:r>
              <a:rPr b="0" lang="hu-HU" sz="1400" spc="-1" strike="noStrike">
                <a:solidFill>
                  <a:srgbClr val="ff9900"/>
                </a:solidFill>
                <a:latin typeface="Arial"/>
              </a:rPr>
              <a:t>www.lap.hu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oldalról bármikor elérhető</a:t>
            </a: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191120" y="914400"/>
            <a:ext cx="4425840" cy="34480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657600" y="4800600"/>
            <a:ext cx="2209680" cy="18972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7086600" y="4724280"/>
            <a:ext cx="1846440" cy="19558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5410080" y="4648320"/>
            <a:ext cx="2057400" cy="19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91120" y="1143000"/>
            <a:ext cx="4622760" cy="37321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743200" y="2286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4782b5"/>
                </a:solidFill>
                <a:latin typeface="Arial Narrow"/>
              </a:rPr>
              <a:t>A Startlap csoport - Hírst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1143000"/>
            <a:ext cx="3962520" cy="551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i a Hírstart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Startlap hírgyűjtő portálja, mely a legfontosabb magyar híroldalak anyagaiból szemlé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9900"/>
                </a:solidFill>
                <a:latin typeface="Arial"/>
              </a:rPr>
              <a:t>A Hírstart jellemzői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nnyen kezelhető, jól áttekinthet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indig naprakész, friss információ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ovatai a legkülönfélébb témákat érintik: pl. Itthon, Életmód, Gazdaság, Bulvár, Tech-tud stb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Hírek mellett háttéranyagok, vélemények, érdekessége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4d85"/>
                </a:solidFill>
                <a:latin typeface="Arial"/>
              </a:rPr>
              <a:t>Amit eddig elértünk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30 000 fölötti átlagos napi látogatószá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aponta 55 oldalról szemlé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öbb, mint napi 1300 cikket kínál az olvasókna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2005 januárjában megújult: még áttekinthetőbb, jobban strukturált és több tartal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28600" y="1143000"/>
            <a:ext cx="373392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i a Startapró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Startlap apróhirdetési site-j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9900"/>
                </a:solidFill>
                <a:latin typeface="Arial"/>
              </a:rPr>
              <a:t>A Startapró jellemzői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Elsősorban C2C tranzakciók gyűjtőhely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Érthető, jól strukturált kategóriá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nnyen kezelhető, jól áttekinthető keresési rendsz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Egyszerű, gyors hirdetésfeladá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4d85"/>
                </a:solidFill>
                <a:latin typeface="Arial"/>
              </a:rPr>
              <a:t>Amit eddig elértünk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10 000 fölötti átlagos napi látogatószá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Átlagosan 24 000 hirdetés található az oldal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aponta 1000 új hirdetés kerül f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hirdetések kb. 25%-a ingat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743200" y="24300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4782b5"/>
                </a:solidFill>
                <a:latin typeface="Arial Narrow"/>
              </a:rPr>
              <a:t>A Startlap csoport - Startapr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86200" y="990720"/>
            <a:ext cx="502920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635280" y="1143000"/>
            <a:ext cx="5292720" cy="35258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743200" y="22860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4782b5"/>
                </a:solidFill>
                <a:latin typeface="Arial Narrow"/>
              </a:rPr>
              <a:t>A Startlap csoport - Startutazá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1144440"/>
            <a:ext cx="3581280" cy="52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i a Startutazá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Startlap utazási irodák legkülönfélébb ajánlatait tömörítő gyűjtőoldal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9900"/>
                </a:solidFill>
                <a:latin typeface="Arial"/>
              </a:rPr>
              <a:t>A Startutazás jellemzői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legnagyobb hazai online utazásközvetítő szolgáltatá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50 különböző utazás iroda ajánlatait kínálj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Belföldi és külföldi utak egyaránt megtalálhatóa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Érthető, jól strukturált kategóriá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nnyen kezelhető, jól áttekinthető keresési rendsz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Egyszerű, gyors ügyintézé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ersenyképes árak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4d85"/>
                </a:solidFill>
                <a:latin typeface="Arial"/>
              </a:rPr>
              <a:t>Amit eddig elértünk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yáron 10 000 fölötti, télen 6-7 000 körüli átlagos napi látogatószá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851280" y="1052640"/>
            <a:ext cx="5076720" cy="39765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743200" y="2286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4782b5"/>
                </a:solidFill>
                <a:latin typeface="Arial Narrow"/>
              </a:rPr>
              <a:t>A Startlap csoport - Startlap játék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1143000"/>
            <a:ext cx="3635640" cy="46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ik a Startlap Játékok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épszerű internetes játékokat tömörítő gyűjtőold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9900"/>
                </a:solidFill>
                <a:latin typeface="Arial"/>
              </a:rPr>
              <a:t>A Startlap Játékok jellemzői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átékok a legkülönbözőbb kategóriákban: logikai, autós, morbid, akció, ügyességi, kvíz, sport, stratégi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api ajánló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oplista a népszerű játékokbó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észben hazai, de leginkább külföldi site-okon található játékok linkgyűjtemény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4d85"/>
                </a:solidFill>
                <a:latin typeface="Arial"/>
              </a:rPr>
              <a:t>Amit eddig elértünk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öbb, mint 45 000 fölötti átlagos napi látogatószám (munkanapok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öbb, mint 350 játé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niel.tarr</cp:lastModifiedBy>
  <dcterms:modified xsi:type="dcterms:W3CDTF">2005-04-11T07:17:00Z</dcterms:modified>
  <cp:revision>45</cp:revision>
  <dc:subject/>
  <dc:title>PowerPoint Presentation</dc:title>
</cp:coreProperties>
</file>