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FBA-1A92-4ECD-8AA4-26909701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AA6-A2B9-405E-9F08-55338F21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AA8-CE55-45C5-BF4E-25D60B37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752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1576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1964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26752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1576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050-8A1B-46FF-91DA-020C45C9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8920" y="404640"/>
            <a:ext cx="7272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3CA-5E03-4CA4-BD57-F60FAE2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752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576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1964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6752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576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4F3-C6EA-409A-97E3-B7E8786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8FE-1389-4146-909B-BE8C193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747-8F15-4578-A051-694E7B81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8920" y="404640"/>
            <a:ext cx="7272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E3F-70F1-4672-B9ED-43E7C45D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235-AFD1-4997-8069-D2AC70A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689-01A6-4A64-8BF0-3D402D9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FE5-D9AD-4517-B86A-F1B763C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9280" y="6244920"/>
            <a:ext cx="878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2002. december 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C821-A982-4AB6-8090-4BC7D44C13C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84360" y="6021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50920" y="2565360"/>
            <a:ext cx="475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 SABEDU Kft. Oktatási Ágaz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471280" y="367992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rr Dá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Köz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859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rinthy Frigyes Két Tanítási Nyelvű Gimnáz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lumbusz Kristóf Humángimnázium és Közgazdasági Szakközép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S Referencia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nt György Szakközép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áncsics Mihály Angol Kéttannyelvű Gimnáz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341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Futó Knowledge Linker Express pilot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zakképzési és Táv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6120" y="1989000"/>
            <a:ext cx="7859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TALANTA Oktatási Kft.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utista Alapítvány – IHM ITP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iztosítási Oktatási Intézet (BOI) – IT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udapesti Művelődési Központ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itman Qualifications és City &amp; Guilds Kelet-európai Vizsgaközpont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OFI Education for Computer Science – digitális tartalomfejlesz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1341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utó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utó pályázato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0480" y="177336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IKTA 2002 –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Educatio Kht – CELEB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IHM ITEM – Portál fejlesz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Leonardo – E-Learn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Leonardo – Visio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Socrates – CL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HM ITP-2 – E-Vilá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73920" y="4267080"/>
            <a:ext cx="26748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0560" y="256500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öszönöm a figyelme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247280" y="32130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rr Dá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333399"/>
                </a:solidFill>
                <a:uFillTx/>
                <a:latin typeface="Tahoma"/>
              </a:rPr>
              <a:t>A Sabedu Kft. oktatási ágazati célja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e-learning technológiák megismertetése és elterjesztése az oktatási szférába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inél szélesebb körű keretrendszer implementáció segítségével a digitális tananyag-fejlesztés fokozott katalizálá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860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-learning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artalomfejlesztési és tartalom-disztribúciós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eretrendszer implementáció és fejlesztési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akmai segítségnyújtás: oktatás és szak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011560" y="2133720"/>
            <a:ext cx="373716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3040" y="148428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Tanácsadás és stratégiai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469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Kereskedelmi tevékenysé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kapcsolatok kialakítá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zentáció: konferenciák és kiállítás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menedzsment: pl. tartalomspecifikáció és implementáci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 termékvonal marketing: termékbemutatók, rendszerprezentáció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aci információk gyűjté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148360" y="1876320"/>
            <a:ext cx="3593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Az ágazati kapcsolódási pontok koordinálá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518472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Oktatási Minisztériummal való kapcsolatok kiépíté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E-learning érdekképviselet az oktatási szféráb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Uniós tapasztalatok és kutatási eredmények bekapcsolá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Pályázatokon &amp; projektekben való részvétel (EU, OM, IHM, stb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potenciális partnerek összekapcsolása (K+F, stb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E-learning tevékenység monitoring az oktatásb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012000" y="2028960"/>
            <a:ext cx="2450880" cy="427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ezárult kiállítások és konferenciá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129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ducatio 200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14/17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-Magyarország, e-Kormányzat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13/1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erszonál 200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7/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ultimédia az oktatásban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20/2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gria Medi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10/1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akképző Iskolák Fórum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7/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KE Vezetőképző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804000" y="4562640"/>
            <a:ext cx="19796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z oktatási ágazat partnere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700280"/>
            <a:ext cx="741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lsőoktatási intézmények – egyetemek és főiskol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özoktatási intézmények – szakközépiskolák és gimnázi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zakképző inté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ávoktatási szerepl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2924280"/>
          <a:ext cx="748980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748980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z oktatási projektek ágazati eloszlás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924200"/>
          <a:ext cx="781200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24200"/>
                    <a:ext cx="781200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első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6120" y="1989000"/>
            <a:ext cx="7859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por Vilmos Katolikus Fő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unaújvárosi Főisk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szterházy Károly Főiskola, Eg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ároli Gáspár Református Egyetem – </a:t>
            </a: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IHM ITEM Pályáz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dolányi János Főiskola, Székesfehérvá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ázmány Péter Katolikus Egye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olnoki Főiskola (Távoktatási Közpon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eszprémi Egye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1341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Futó Knowledge Linker Enterprise pilot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7:11:36Z</dcterms:created>
  <dc:creator>Tarr Dániel</dc:creator>
  <dc:description/>
  <dc:language>en-US</dc:language>
  <cp:lastModifiedBy>Tarr Dániel</cp:lastModifiedBy>
  <dcterms:modified xsi:type="dcterms:W3CDTF">2002-12-17T11:28:56Z</dcterms:modified>
  <cp:revision>172</cp:revision>
  <dc:subject>2002 december 9</dc:subject>
  <dc:title>A Sabedu Oktatási Ágaz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5218883</vt:r8>
  </property>
  <property fmtid="{D5CDD505-2E9C-101B-9397-08002B2CF9AE}" pid="3" name="_AuthorEmail">
    <vt:lpwstr>horvath.eszter@sabedu.hu</vt:lpwstr>
  </property>
  <property fmtid="{D5CDD505-2E9C-101B-9397-08002B2CF9AE}" pid="4" name="_AuthorEmailDisplayName">
    <vt:lpwstr>Horváth Eszter</vt:lpwstr>
  </property>
  <property fmtid="{D5CDD505-2E9C-101B-9397-08002B2CF9AE}" pid="5" name="_EmailSubject">
    <vt:lpwstr>prezentáció</vt:lpwstr>
  </property>
  <property fmtid="{D5CDD505-2E9C-101B-9397-08002B2CF9AE}" pid="6" name="_PreviousAdHocReviewCycleID">
    <vt:r8>760282965</vt:r8>
  </property>
  <property fmtid="{D5CDD505-2E9C-101B-9397-08002B2CF9AE}" pid="7" name="_ReviewingToolsShownOnce">
    <vt:lpwstr/>
  </property>
</Properties>
</file>