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04A-454C-4D51-9489-A94AC381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E74-E05D-4BB0-8DFA-EF20D02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0BF-7DB9-4EB9-8E76-7D4198D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46B-B949-48DC-A5D1-4074C2C9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3D5-A55C-4FD3-94E1-BA03A99C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752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115760" y="249192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1964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26752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115760" y="3407760"/>
            <a:ext cx="1759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54655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280-82DC-4B6D-8099-0DBB4F6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C6B-DA50-4C5B-8C99-D9517ADC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58A-7716-409B-810F-5656428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18920" y="404640"/>
            <a:ext cx="7272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EC1-CB55-476E-8E0B-76B13196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82B-C68F-477C-B5B0-FE157EA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0080" y="340776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57F-156D-40AC-B45B-1673DBC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1964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0080" y="2491920"/>
            <a:ext cx="2666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19640" y="3407760"/>
            <a:ext cx="5465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2A1-10B3-41FB-BEC1-227DF332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9280" y="6244920"/>
            <a:ext cx="878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</a:rPr>
              <a:t>2002. december 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5E7-310F-43CB-A740-CA8722652F84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404640"/>
            <a:ext cx="727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284360" y="6021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50920" y="2565360"/>
            <a:ext cx="475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 SABEDU Kft. Oktatási Ágaz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471280" y="367992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Köz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859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arinthy Frigyes Két Tanítási 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lumbusz Kristóf Humángimnázium és Közgazdasági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MS Referencia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ent György Szakközép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áncsics Mihály Angol Kéttannyelvű Gimnáz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xpress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zakképzési és Táv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TALANTA Oktatási Kft.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utista Alapítvány – IHM ITP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iztosítási Oktatási Intézet (BOI) – IT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Budapesti Művelődési 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itman Qualifications és City &amp; Guilds Kelet-európai Vizsgaközpont – KLE implementáci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FI Education for Computer Science – digitális tartalomfejleszté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134136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utó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utó pályázato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0480" y="177336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KTA 2002 –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Educatio Kht – CELEB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OM IHM ITEM – Portál fejleszté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E-Learn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Leonardo – Visio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EU Socrates – CL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ahoma"/>
              </a:rPr>
              <a:t>IHM ITP-2 – E-Vilá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6073920" y="4267080"/>
            <a:ext cx="2674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0560" y="256500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öszönöm a figyelme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247280" y="32130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arr Dá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333399"/>
                </a:solidFill>
                <a:uFillTx/>
                <a:latin typeface="Tahoma"/>
              </a:rPr>
              <a:t>A Sabedu Kft. oktatási ágazati célja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z e-learning technológiák megismertetése és elterjesztése az oktatási szférába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ahoma"/>
              </a:rPr>
              <a:t>A minél szélesebb körű keretrendszer implementáció segítségével a digitális tananyag-fejlesztés fokozott katalizálá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418608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-learning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Tartalomfejlesztési és tartalom-disztribúciós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eretrendszer implementáció és fejlesztési 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8680" indent="-4341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akmai segítségnyújtás: oktatás és szaktanácsadá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011560" y="2133720"/>
            <a:ext cx="373716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3040" y="1484280"/>
            <a:ext cx="56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1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Tanácsadás és stratégiai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4690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Kereskedelmi tevékenység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kapcsolatok kialakítá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zentáció: konferenciák és kiállítás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menedzsment: pl. tartalomspecifikáció és implementáci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 termékvonal marketing: termékbemutatók, rendszerprezentáció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aci információk gyűjté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5148360" y="1876320"/>
            <a:ext cx="3593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3.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ahoma"/>
              </a:rPr>
              <a:t>Az ágazati kapcsolódási pontok koordinálás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0000" y="2276280"/>
            <a:ext cx="518472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z Oktatási Minisztériummal való kapcsolatok kiépíté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érdekképviselet az oktatási szférá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Uniós tapasztalatok és kutatási eredmények bekapcsolá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Pályázatokon &amp; projektekben való részvétel (EU, OM, IHM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A potenciális partnerek összekapcsolása (K+F, stb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E-learning tevékenység monitoring az oktatásb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012000" y="2028960"/>
            <a:ext cx="2450880" cy="4279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836640"/>
            <a:ext cx="223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ezárult kiállítások és konferenciá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915920"/>
            <a:ext cx="712944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ducatio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4/17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e-Magyarország, e-Kormányzat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13/1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Perszonál 2002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1-7/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Multimédia az oktatásban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0/2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Agria Medi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10/1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Szakképző Iskolák Fóruma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7/8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ahoma"/>
              </a:rPr>
              <a:t>BKE Vezetőképző</a:t>
            </a:r>
            <a:r>
              <a:rPr b="0" lang="hu-H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ahoma"/>
              </a:rPr>
              <a:t>(2002-10-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804000" y="4562640"/>
            <a:ext cx="19796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ágazat partnere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1700280"/>
            <a:ext cx="741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elsőoktatási intézmények – egyetemek és főiskol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özoktatási intézmények – szakközépiskolák és gimnázi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zakképző intéze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ávoktatási szerepl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71640" y="2924280"/>
          <a:ext cx="748980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748980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z oktatási projektek ágazati eloszlás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924200"/>
          <a:ext cx="781200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24200"/>
                    <a:ext cx="781200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32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elsőoktatási partnerek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6120" y="1989000"/>
            <a:ext cx="785952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por Vilmos Katolikus Főisk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Dunaújvárosi Főisk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szterházy Károly Főiskola, Eg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ároli Gáspár Református Egyetem – </a:t>
            </a:r>
            <a:r>
              <a:rPr b="0" lang="hu-HU" sz="1800" spc="-1" strike="noStrike">
                <a:solidFill>
                  <a:srgbClr val="000000"/>
                </a:solidFill>
                <a:latin typeface="Tahoma"/>
              </a:rPr>
              <a:t>IHM ITEM Pályáz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odolányi János Főiskola, Székesfehérvá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Pázmány Péter Katolikus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Szolnoki Főiskola (Távoktatási Közpon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Veszprémi Egye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1341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Futó Knowledge Linker Enterprise pilot projek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5076720" y="5342040"/>
            <a:ext cx="381636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7:11:36Z</dcterms:created>
  <dc:creator>Tarr Dániel</dc:creator>
  <dc:description/>
  <dc:language>en-US</dc:language>
  <cp:lastModifiedBy>Tarr Dániel</cp:lastModifiedBy>
  <dcterms:modified xsi:type="dcterms:W3CDTF">2002-12-17T11:28:56Z</dcterms:modified>
  <cp:revision>172</cp:revision>
  <dc:subject>2002 december 9</dc:subject>
  <dc:title>A Sabedu Oktatási Ágaza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95218883</vt:r8>
  </property>
  <property fmtid="{D5CDD505-2E9C-101B-9397-08002B2CF9AE}" pid="3" name="_AuthorEmail">
    <vt:lpwstr>horvath.eszter@sabedu.hu</vt:lpwstr>
  </property>
  <property fmtid="{D5CDD505-2E9C-101B-9397-08002B2CF9AE}" pid="4" name="_AuthorEmailDisplayName">
    <vt:lpwstr>Horváth Eszter</vt:lpwstr>
  </property>
  <property fmtid="{D5CDD505-2E9C-101B-9397-08002B2CF9AE}" pid="5" name="_EmailSubject">
    <vt:lpwstr>prezentáció</vt:lpwstr>
  </property>
  <property fmtid="{D5CDD505-2E9C-101B-9397-08002B2CF9AE}" pid="6" name="_PreviousAdHocReviewCycleID">
    <vt:r8>760282965</vt:r8>
  </property>
  <property fmtid="{D5CDD505-2E9C-101B-9397-08002B2CF9AE}" pid="7" name="_ReviewingToolsShownOnce">
    <vt:lpwstr/>
  </property>
</Properties>
</file>