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3.jpeg" ContentType="image/jpeg"/>
  <Override PartName="/ppt/media/image12.wmf" ContentType="image/x-wmf"/>
  <Override PartName="/ppt/media/image4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3.png" ContentType="image/pn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DDDA-E11E-442F-A9AA-B899EBF0A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19640" y="2491920"/>
            <a:ext cx="546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19640" y="3407760"/>
            <a:ext cx="546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A749-C45C-46E9-B2EB-F49E079B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19640" y="249192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20080" y="249192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19640" y="340776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20080" y="340776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B255-2EE1-4A64-90F0-3A90F30A5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19640" y="2491920"/>
            <a:ext cx="1759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67520" y="2491920"/>
            <a:ext cx="1759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115760" y="2491920"/>
            <a:ext cx="1759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19640" y="3407760"/>
            <a:ext cx="1759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267520" y="3407760"/>
            <a:ext cx="1759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115760" y="3407760"/>
            <a:ext cx="1759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4CAE-C0D5-4BF3-ABAC-1A3D87DCF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419640" y="2491920"/>
            <a:ext cx="5465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19640" y="2491920"/>
            <a:ext cx="54655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19640" y="2491920"/>
            <a:ext cx="26668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0080" y="2491920"/>
            <a:ext cx="26668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18920" y="404640"/>
            <a:ext cx="7272360" cy="56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19640" y="249192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0080" y="2491920"/>
            <a:ext cx="26668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419640" y="340776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19640" y="2491920"/>
            <a:ext cx="5465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81DB-3217-423E-AF76-399839B0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19640" y="2491920"/>
            <a:ext cx="26668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0080" y="249192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0080" y="340776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19640" y="249192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0080" y="249192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419640" y="3407760"/>
            <a:ext cx="546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19640" y="2491920"/>
            <a:ext cx="546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419640" y="3407760"/>
            <a:ext cx="546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19640" y="249192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0080" y="249192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419640" y="340776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0080" y="340776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19640" y="2491920"/>
            <a:ext cx="1759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67520" y="2491920"/>
            <a:ext cx="1759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115760" y="2491920"/>
            <a:ext cx="1759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419640" y="3407760"/>
            <a:ext cx="1759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5267520" y="3407760"/>
            <a:ext cx="1759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115760" y="3407760"/>
            <a:ext cx="1759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19640" y="2491920"/>
            <a:ext cx="54655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440F-BC54-45E6-88C7-404440A5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19640" y="2491920"/>
            <a:ext cx="26668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0080" y="2491920"/>
            <a:ext cx="26668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E238-AFEA-47A0-B547-C350B5FD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EA77-A11F-422F-A7B9-F33C2993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18920" y="404640"/>
            <a:ext cx="7272360" cy="56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2E2B-220F-444C-BFCA-56D5D1E6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19640" y="249192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0080" y="2491920"/>
            <a:ext cx="26668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19640" y="340776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D847-0968-42E7-986B-51EA9B1D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19640" y="2491920"/>
            <a:ext cx="26668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0080" y="249192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0080" y="340776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7587-F77A-4287-84E6-AD9050A6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19640" y="249192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0080" y="249192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19640" y="3407760"/>
            <a:ext cx="546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7FBC-E2EA-462D-A984-21AC9511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9280" y="6244920"/>
            <a:ext cx="8785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imes New Roman"/>
              </a:rPr>
              <a:t>2002. december 0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4C9C-C75C-47D8-9806-AD4DE3DAA391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284360" y="6021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50920" y="2565360"/>
            <a:ext cx="4753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A SABEDU Kft. Oktatási Ágaz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5471280" y="367992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Tarr Dán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9032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Közoktatási partnere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99640" y="2133720"/>
            <a:ext cx="785988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arinthy Frigyes Két Tanítási Nyelvű Gimnáz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olumbusz Kristóf Humángimnázium és Közgazdasági Szakközépisko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MS Referenciaisko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Szent György Szakközépisko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Táncsics Mihály Angol Kéttannyelvű Gimnáz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1341360"/>
            <a:ext cx="54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808080"/>
                </a:solidFill>
                <a:latin typeface="Arial"/>
              </a:rPr>
              <a:t>Futó Knowledge Linker Express pilot projek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5076720" y="5342040"/>
            <a:ext cx="3816360" cy="13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9032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zakképzési és Távoktatási partnere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16120" y="1989000"/>
            <a:ext cx="785952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TALANTA Oktatási Kft. – KLE implementáci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utista Alapítvány – IHM ITP-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Biztosítási Oktatási Intézet (BOI) – ITE implementáci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Budapesti Művelődési Központ – KLE implementáci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Pitman Qualifications és City &amp; Guilds Kelet-európai Vizsgaközpont – KLE implementáci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SZOFI Education for Computer Science – digitális tartalomfejleszté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763640" y="1341360"/>
            <a:ext cx="54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utó projek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5076720" y="5342040"/>
            <a:ext cx="3816360" cy="13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utó pályázato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60480" y="1773360"/>
            <a:ext cx="6851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OM IKTA 2002 – 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OM Educatio Kht – CELEB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OM IHM ITEM – Portál fejleszté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EU Leonardo – E-Learning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EU Leonardo – Vision 2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EU Socrates – CLI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IHM ITP-2 – E-Vilá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6073920" y="4267080"/>
            <a:ext cx="267480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90560" y="2565000"/>
            <a:ext cx="57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Köszönöm a figyelmet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247280" y="321300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Tarr Dán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032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333399"/>
                </a:solidFill>
                <a:uFillTx/>
                <a:latin typeface="Tahoma"/>
              </a:rPr>
              <a:t>A Sabedu Kft. oktatási ágazati célja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z e-learning technológiák megismertetése és elterjesztése az oktatási szférába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 minél szélesebb körű keretrendszer implementáció segítségével a digitális tananyag-fejlesztés fokozott katalizálás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8920" y="836640"/>
            <a:ext cx="22338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Tevékenységek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418608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868680" indent="-4341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E-learning tanácsadá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Tartalomfejlesztési és tartalom-disztribúciós tanácsadá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eretrendszer implementáció és fejlesztési tanácsadá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Szakmai segítségnyújtás: oktatás és szaktanácsadá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011560" y="2133720"/>
            <a:ext cx="3737160" cy="4525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93040" y="1484280"/>
            <a:ext cx="562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1. </a:t>
            </a:r>
            <a:r>
              <a:rPr b="1" lang="en-US" sz="2400" spc="-1" strike="noStrike" u="sng">
                <a:solidFill>
                  <a:srgbClr val="003399"/>
                </a:solidFill>
                <a:uFillTx/>
                <a:latin typeface="Tahoma"/>
              </a:rPr>
              <a:t>Tanácsadás és stratégiai terv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1484280"/>
            <a:ext cx="46908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2. </a:t>
            </a:r>
            <a:r>
              <a:rPr b="1" lang="en-US" sz="2400" spc="-1" strike="noStrike" u="sng">
                <a:solidFill>
                  <a:srgbClr val="003399"/>
                </a:solidFill>
                <a:uFillTx/>
                <a:latin typeface="Tahoma"/>
              </a:rPr>
              <a:t>Kereskedelmi tevékenység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38480" cy="39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nerkapcsolatok kialakítá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zentáció: konferenciák és kiállítás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menedzsment: pl. tartalomspecifikáció és implementáció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L termékvonal marketing: termékbemutatók, rendszerprezentáció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iaci információk gyűjté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836640"/>
            <a:ext cx="22338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Tevékenység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5148360" y="1876320"/>
            <a:ext cx="359388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3. </a:t>
            </a:r>
            <a:r>
              <a:rPr b="1" lang="en-US" sz="2400" spc="-1" strike="noStrike" u="sng">
                <a:solidFill>
                  <a:srgbClr val="003399"/>
                </a:solidFill>
                <a:uFillTx/>
                <a:latin typeface="Tahoma"/>
              </a:rPr>
              <a:t>Az ágazati kapcsolódási pontok koordinálása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00000" y="2276280"/>
            <a:ext cx="5184720" cy="37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ahoma"/>
              </a:rPr>
              <a:t>Az Oktatási Minisztériummal való kapcsolatok kiépíté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ahoma"/>
              </a:rPr>
              <a:t>E-learning érdekképviselet az oktatási szféráb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ahoma"/>
              </a:rPr>
              <a:t>Uniós tapasztalatok és kutatási eredmények bekapcsolá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ahoma"/>
              </a:rPr>
              <a:t>Pályázatokon &amp; projektekben való részvétel (EU, OM, IHM, stb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ahoma"/>
              </a:rPr>
              <a:t>A potenciális partnerek összekapcsolása (K+F, stb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ahoma"/>
              </a:rPr>
              <a:t>E-learning tevékenység monitoring az oktatásb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6012000" y="2028960"/>
            <a:ext cx="2450880" cy="4279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79280" y="836640"/>
            <a:ext cx="22338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Tevékenység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032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Lezárult kiállítások és konferenciá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1915920"/>
            <a:ext cx="71294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Educatio 2002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(2002-11-14/17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e-Magyarország, e-Kormányzat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(2002-11-13/1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Perszonál 2002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(2002-11-7/9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Multimédia az oktatásban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(2002-10-20/21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Agria Media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(2002-10-10/12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Szakképző Iskolák Fóruma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(2002-10-7/8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BKE Vezetőképző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(2002-10-2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6804000" y="4562640"/>
            <a:ext cx="197964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9647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Az oktatási ágazat partnere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826920" y="1700280"/>
            <a:ext cx="741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elsőoktatási intézmények – egyetemek és főiskolá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özoktatási intézmények – szakközépiskolák és gimnázium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zakképző intézet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ávoktatási szereplő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71640" y="2924280"/>
          <a:ext cx="7489800" cy="35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924280"/>
                    <a:ext cx="7489800" cy="35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032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Az oktatási projektek ágazati eloszlás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55640" y="1924200"/>
          <a:ext cx="7812000" cy="38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24200"/>
                    <a:ext cx="7812000" cy="38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032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elsőoktatási partnere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16120" y="1989000"/>
            <a:ext cx="785952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por Vilmos Katolikus Főisko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Dunaújvárosi Főiskol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Eszterházy Károly Főiskola, Eg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ároli Gáspár Református Egyetem – </a:t>
            </a:r>
            <a:r>
              <a:rPr b="0" lang="hu-HU" sz="1800" spc="-1" strike="noStrike">
                <a:solidFill>
                  <a:srgbClr val="000000"/>
                </a:solidFill>
                <a:latin typeface="Tahoma"/>
              </a:rPr>
              <a:t>IHM ITEM Pályáza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odolányi János Főiskola, Székesfehérvá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Pázmány Péter Katolikus Egyete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Szolnoki Főiskola (Távoktatási Közpon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Veszprémi Egyete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2050920" y="134136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808080"/>
                </a:solidFill>
                <a:latin typeface="Arial"/>
              </a:rPr>
              <a:t>Futó Knowledge Linker Enterprise pilot projek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5076720" y="5342040"/>
            <a:ext cx="3816360" cy="13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7:11:36Z</dcterms:created>
  <dc:creator>Tarr Dániel</dc:creator>
  <dc:description/>
  <dc:language>en-US</dc:language>
  <cp:lastModifiedBy>Tarr Dániel</cp:lastModifiedBy>
  <dcterms:modified xsi:type="dcterms:W3CDTF">2002-12-17T11:28:56Z</dcterms:modified>
  <cp:revision>172</cp:revision>
  <dc:subject>2002 december 9</dc:subject>
  <dc:title>A Sabedu Oktatási Ágaza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95218883</vt:r8>
  </property>
  <property fmtid="{D5CDD505-2E9C-101B-9397-08002B2CF9AE}" pid="3" name="_AuthorEmail">
    <vt:lpwstr>horvath.eszter@sabedu.hu</vt:lpwstr>
  </property>
  <property fmtid="{D5CDD505-2E9C-101B-9397-08002B2CF9AE}" pid="4" name="_AuthorEmailDisplayName">
    <vt:lpwstr>Horváth Eszter</vt:lpwstr>
  </property>
  <property fmtid="{D5CDD505-2E9C-101B-9397-08002B2CF9AE}" pid="5" name="_EmailSubject">
    <vt:lpwstr>prezentáció</vt:lpwstr>
  </property>
  <property fmtid="{D5CDD505-2E9C-101B-9397-08002B2CF9AE}" pid="6" name="_PreviousAdHocReviewCycleID">
    <vt:r8>760282965</vt:r8>
  </property>
  <property fmtid="{D5CDD505-2E9C-101B-9397-08002B2CF9AE}" pid="7" name="_ReviewingToolsShownOnce">
    <vt:lpwstr/>
  </property>
</Properties>
</file>